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1FB0E1-BD3D-443E-A482-1E1C61B54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1199"/>
              </a:spcAft>
              <a:buNone/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99"/>
              </a:spcAft>
              <a:buNone/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50% of the respondents state that … globalisation, rapid  technology development, further integration of products/services and shorter product life cycles are changes which will take place in their industry in the next 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65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1199"/>
              </a:spcAft>
              <a:buNone/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r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99"/>
              </a:spcAft>
              <a:buNone/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tatements have been considered as slightly fals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’s competencies are map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don’t receive an overflow of inform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have sufficient time to share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is re-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creation is a structured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is sufficiently sorted out, compiled and summarised into knowled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99"/>
              </a:spcAft>
              <a:buNone/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tatements have been judged as slightly tru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s are improved based on the exchange of experiences/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are stimulated to present new ideas; there is an appropriate structure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review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are willing to sh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is available at the right 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360">
              <a:lnSpc>
                <a:spcPct val="85000"/>
              </a:lnSpc>
              <a:spcBef>
                <a:spcPts val="2401"/>
              </a:spcBef>
              <a:buClr>
                <a:srgbClr val="ccccff"/>
              </a:buClr>
              <a:buSzPct val="45000"/>
              <a:buFont typeface="ZapfDingbats BT"/>
              <a:buChar char="u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do learn from mis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*  8 bottlen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*  te clusteren in 2 groepe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-    1 op gebied van Behavioural invalsho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-    1 op gebied Information/Knowledge transfer invalsho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*  vandaag gekozen voor symboliek van het hu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*  huis begin je te bouwen bij het Fund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*  Fundament moet af zijn voordat je de Muren op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*  Plafond en dak zijn resultante van Fundament en Mu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spcAft>
                <a:spcPts val="1199"/>
              </a:spcAft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Univers 55"/>
                <a:ea typeface="Univers 55"/>
              </a:rPr>
              <a:t>*  Het geheel heeft value based Knowledge Management tot gevol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2f2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98360" y="6362640"/>
            <a:ext cx="780120" cy="321120"/>
            <a:chOff x="198360" y="6362640"/>
            <a:chExt cx="780120" cy="321120"/>
          </a:xfrm>
        </p:grpSpPr>
        <p:sp>
          <p:nvSpPr>
            <p:cNvPr id="2" name=""/>
            <p:cNvSpPr/>
            <p:nvPr/>
          </p:nvSpPr>
          <p:spPr>
            <a:xfrm>
              <a:off x="235080" y="6362640"/>
              <a:ext cx="174960" cy="262440"/>
            </a:xfrm>
            <a:custGeom>
              <a:avLst/>
              <a:gdLst/>
              <a:ahLst/>
              <a:rect l="0" t="0" r="r" b="b"/>
              <a:pathLst>
                <a:path w="486" h="729">
                  <a:moveTo>
                    <a:pt x="0" y="0"/>
                  </a:moveTo>
                  <a:lnTo>
                    <a:pt x="486" y="0"/>
                  </a:lnTo>
                  <a:lnTo>
                    <a:pt x="486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23720" y="6362640"/>
              <a:ext cx="178200" cy="260640"/>
            </a:xfrm>
            <a:custGeom>
              <a:avLst/>
              <a:gdLst/>
              <a:ahLst/>
              <a:rect l="0" t="0" r="r" b="b"/>
              <a:pathLst>
                <a:path w="495" h="724">
                  <a:moveTo>
                    <a:pt x="0" y="0"/>
                  </a:moveTo>
                  <a:lnTo>
                    <a:pt x="495" y="0"/>
                  </a:lnTo>
                  <a:lnTo>
                    <a:pt x="495" y="724"/>
                  </a:lnTo>
                  <a:lnTo>
                    <a:pt x="0" y="7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15960" y="6362640"/>
              <a:ext cx="176400" cy="262440"/>
            </a:xfrm>
            <a:custGeom>
              <a:avLst/>
              <a:gdLst/>
              <a:ahLst/>
              <a:rect l="0" t="0" r="r" b="b"/>
              <a:pathLst>
                <a:path w="490" h="729">
                  <a:moveTo>
                    <a:pt x="0" y="0"/>
                  </a:moveTo>
                  <a:lnTo>
                    <a:pt x="490" y="0"/>
                  </a:lnTo>
                  <a:lnTo>
                    <a:pt x="490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04960" y="6362640"/>
              <a:ext cx="173520" cy="262440"/>
            </a:xfrm>
            <a:custGeom>
              <a:avLst/>
              <a:gdLst/>
              <a:ahLst/>
              <a:rect l="0" t="0" r="r" b="b"/>
              <a:pathLst>
                <a:path w="482" h="729">
                  <a:moveTo>
                    <a:pt x="0" y="0"/>
                  </a:moveTo>
                  <a:lnTo>
                    <a:pt x="482" y="0"/>
                  </a:lnTo>
                  <a:lnTo>
                    <a:pt x="482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98360" y="6504120"/>
              <a:ext cx="189360" cy="176400"/>
            </a:xfrm>
            <a:custGeom>
              <a:avLst/>
              <a:gdLst/>
              <a:ahLst/>
              <a:rect l="0" t="0" r="r" b="b"/>
              <a:pathLst>
                <a:path w="526" h="490">
                  <a:moveTo>
                    <a:pt x="0" y="490"/>
                  </a:moveTo>
                  <a:lnTo>
                    <a:pt x="138" y="0"/>
                  </a:lnTo>
                  <a:lnTo>
                    <a:pt x="254" y="0"/>
                  </a:lnTo>
                  <a:lnTo>
                    <a:pt x="187" y="204"/>
                  </a:lnTo>
                  <a:lnTo>
                    <a:pt x="392" y="0"/>
                  </a:lnTo>
                  <a:lnTo>
                    <a:pt x="526" y="0"/>
                  </a:lnTo>
                  <a:lnTo>
                    <a:pt x="294" y="231"/>
                  </a:lnTo>
                  <a:lnTo>
                    <a:pt x="415" y="486"/>
                  </a:lnTo>
                  <a:lnTo>
                    <a:pt x="294" y="486"/>
                  </a:lnTo>
                  <a:lnTo>
                    <a:pt x="187" y="231"/>
                  </a:lnTo>
                  <a:lnTo>
                    <a:pt x="106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63600" y="6502320"/>
              <a:ext cx="170280" cy="179640"/>
            </a:xfrm>
            <a:custGeom>
              <a:avLst/>
              <a:gdLst/>
              <a:ahLst/>
              <a:rect l="0" t="0" r="r" b="b"/>
              <a:pathLst>
                <a:path w="473" h="499">
                  <a:moveTo>
                    <a:pt x="0" y="499"/>
                  </a:moveTo>
                  <a:lnTo>
                    <a:pt x="144" y="0"/>
                  </a:lnTo>
                  <a:lnTo>
                    <a:pt x="329" y="0"/>
                  </a:lnTo>
                  <a:lnTo>
                    <a:pt x="397" y="4"/>
                  </a:lnTo>
                  <a:lnTo>
                    <a:pt x="424" y="13"/>
                  </a:lnTo>
                  <a:lnTo>
                    <a:pt x="437" y="17"/>
                  </a:lnTo>
                  <a:lnTo>
                    <a:pt x="446" y="31"/>
                  </a:lnTo>
                  <a:lnTo>
                    <a:pt x="464" y="62"/>
                  </a:lnTo>
                  <a:lnTo>
                    <a:pt x="473" y="129"/>
                  </a:lnTo>
                  <a:lnTo>
                    <a:pt x="469" y="155"/>
                  </a:lnTo>
                  <a:lnTo>
                    <a:pt x="451" y="213"/>
                  </a:lnTo>
                  <a:lnTo>
                    <a:pt x="437" y="226"/>
                  </a:lnTo>
                  <a:lnTo>
                    <a:pt x="424" y="250"/>
                  </a:lnTo>
                  <a:lnTo>
                    <a:pt x="383" y="272"/>
                  </a:lnTo>
                  <a:lnTo>
                    <a:pt x="365" y="285"/>
                  </a:lnTo>
                  <a:lnTo>
                    <a:pt x="329" y="299"/>
                  </a:lnTo>
                  <a:lnTo>
                    <a:pt x="279" y="303"/>
                  </a:lnTo>
                  <a:lnTo>
                    <a:pt x="171" y="303"/>
                  </a:lnTo>
                  <a:lnTo>
                    <a:pt x="98" y="499"/>
                  </a:lnTo>
                  <a:lnTo>
                    <a:pt x="0" y="499"/>
                  </a:lnTo>
                  <a:lnTo>
                    <a:pt x="180" y="226"/>
                  </a:lnTo>
                  <a:lnTo>
                    <a:pt x="288" y="226"/>
                  </a:lnTo>
                  <a:lnTo>
                    <a:pt x="320" y="218"/>
                  </a:lnTo>
                  <a:lnTo>
                    <a:pt x="347" y="200"/>
                  </a:lnTo>
                  <a:lnTo>
                    <a:pt x="365" y="186"/>
                  </a:lnTo>
                  <a:lnTo>
                    <a:pt x="374" y="169"/>
                  </a:lnTo>
                  <a:lnTo>
                    <a:pt x="379" y="146"/>
                  </a:lnTo>
                  <a:lnTo>
                    <a:pt x="379" y="124"/>
                  </a:lnTo>
                  <a:lnTo>
                    <a:pt x="374" y="111"/>
                  </a:lnTo>
                  <a:lnTo>
                    <a:pt x="361" y="93"/>
                  </a:lnTo>
                  <a:lnTo>
                    <a:pt x="347" y="80"/>
                  </a:lnTo>
                  <a:lnTo>
                    <a:pt x="329" y="80"/>
                  </a:lnTo>
                  <a:lnTo>
                    <a:pt x="225" y="80"/>
                  </a:lnTo>
                  <a:lnTo>
                    <a:pt x="180" y="226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15880" y="6502320"/>
              <a:ext cx="248040" cy="178200"/>
            </a:xfrm>
            <a:custGeom>
              <a:avLst/>
              <a:gdLst/>
              <a:ahLst/>
              <a:rect l="0" t="0" r="r" b="b"/>
              <a:pathLst>
                <a:path w="689" h="495">
                  <a:moveTo>
                    <a:pt x="0" y="495"/>
                  </a:moveTo>
                  <a:lnTo>
                    <a:pt x="137" y="8"/>
                  </a:lnTo>
                  <a:lnTo>
                    <a:pt x="298" y="8"/>
                  </a:lnTo>
                  <a:lnTo>
                    <a:pt x="298" y="40"/>
                  </a:lnTo>
                  <a:lnTo>
                    <a:pt x="302" y="84"/>
                  </a:lnTo>
                  <a:lnTo>
                    <a:pt x="307" y="130"/>
                  </a:lnTo>
                  <a:lnTo>
                    <a:pt x="311" y="178"/>
                  </a:lnTo>
                  <a:lnTo>
                    <a:pt x="311" y="223"/>
                  </a:lnTo>
                  <a:lnTo>
                    <a:pt x="311" y="276"/>
                  </a:lnTo>
                  <a:lnTo>
                    <a:pt x="311" y="321"/>
                  </a:lnTo>
                  <a:lnTo>
                    <a:pt x="311" y="380"/>
                  </a:lnTo>
                  <a:lnTo>
                    <a:pt x="324" y="348"/>
                  </a:lnTo>
                  <a:lnTo>
                    <a:pt x="351" y="299"/>
                  </a:lnTo>
                  <a:lnTo>
                    <a:pt x="373" y="250"/>
                  </a:lnTo>
                  <a:lnTo>
                    <a:pt x="404" y="201"/>
                  </a:lnTo>
                  <a:lnTo>
                    <a:pt x="431" y="152"/>
                  </a:lnTo>
                  <a:lnTo>
                    <a:pt x="458" y="106"/>
                  </a:lnTo>
                  <a:lnTo>
                    <a:pt x="489" y="57"/>
                  </a:lnTo>
                  <a:lnTo>
                    <a:pt x="530" y="0"/>
                  </a:lnTo>
                  <a:lnTo>
                    <a:pt x="689" y="0"/>
                  </a:lnTo>
                  <a:lnTo>
                    <a:pt x="574" y="491"/>
                  </a:lnTo>
                  <a:lnTo>
                    <a:pt x="462" y="491"/>
                  </a:lnTo>
                  <a:lnTo>
                    <a:pt x="552" y="134"/>
                  </a:lnTo>
                  <a:lnTo>
                    <a:pt x="324" y="491"/>
                  </a:lnTo>
                  <a:lnTo>
                    <a:pt x="227" y="491"/>
                  </a:lnTo>
                  <a:lnTo>
                    <a:pt x="200" y="115"/>
                  </a:lnTo>
                  <a:lnTo>
                    <a:pt x="93" y="495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0320" y="6499080"/>
              <a:ext cx="165600" cy="184680"/>
            </a:xfrm>
            <a:custGeom>
              <a:avLst/>
              <a:gdLst/>
              <a:ahLst/>
              <a:rect l="0" t="0" r="r" b="b"/>
              <a:pathLst>
                <a:path w="460" h="513">
                  <a:moveTo>
                    <a:pt x="8" y="281"/>
                  </a:moveTo>
                  <a:lnTo>
                    <a:pt x="22" y="223"/>
                  </a:lnTo>
                  <a:lnTo>
                    <a:pt x="31" y="187"/>
                  </a:lnTo>
                  <a:lnTo>
                    <a:pt x="57" y="129"/>
                  </a:lnTo>
                  <a:lnTo>
                    <a:pt x="89" y="84"/>
                  </a:lnTo>
                  <a:lnTo>
                    <a:pt x="125" y="53"/>
                  </a:lnTo>
                  <a:lnTo>
                    <a:pt x="165" y="26"/>
                  </a:lnTo>
                  <a:lnTo>
                    <a:pt x="214" y="8"/>
                  </a:lnTo>
                  <a:lnTo>
                    <a:pt x="268" y="4"/>
                  </a:lnTo>
                  <a:lnTo>
                    <a:pt x="312" y="0"/>
                  </a:lnTo>
                  <a:lnTo>
                    <a:pt x="349" y="4"/>
                  </a:lnTo>
                  <a:lnTo>
                    <a:pt x="393" y="22"/>
                  </a:lnTo>
                  <a:lnTo>
                    <a:pt x="429" y="40"/>
                  </a:lnTo>
                  <a:lnTo>
                    <a:pt x="451" y="84"/>
                  </a:lnTo>
                  <a:lnTo>
                    <a:pt x="460" y="120"/>
                  </a:lnTo>
                  <a:lnTo>
                    <a:pt x="451" y="174"/>
                  </a:lnTo>
                  <a:lnTo>
                    <a:pt x="353" y="174"/>
                  </a:lnTo>
                  <a:lnTo>
                    <a:pt x="362" y="138"/>
                  </a:lnTo>
                  <a:lnTo>
                    <a:pt x="349" y="102"/>
                  </a:lnTo>
                  <a:lnTo>
                    <a:pt x="308" y="88"/>
                  </a:lnTo>
                  <a:lnTo>
                    <a:pt x="268" y="88"/>
                  </a:lnTo>
                  <a:lnTo>
                    <a:pt x="232" y="93"/>
                  </a:lnTo>
                  <a:lnTo>
                    <a:pt x="196" y="115"/>
                  </a:lnTo>
                  <a:lnTo>
                    <a:pt x="165" y="147"/>
                  </a:lnTo>
                  <a:lnTo>
                    <a:pt x="139" y="192"/>
                  </a:lnTo>
                  <a:lnTo>
                    <a:pt x="121" y="241"/>
                  </a:lnTo>
                  <a:lnTo>
                    <a:pt x="111" y="263"/>
                  </a:lnTo>
                  <a:lnTo>
                    <a:pt x="106" y="303"/>
                  </a:lnTo>
                  <a:lnTo>
                    <a:pt x="106" y="347"/>
                  </a:lnTo>
                  <a:lnTo>
                    <a:pt x="121" y="388"/>
                  </a:lnTo>
                  <a:lnTo>
                    <a:pt x="156" y="420"/>
                  </a:lnTo>
                  <a:lnTo>
                    <a:pt x="201" y="433"/>
                  </a:lnTo>
                  <a:lnTo>
                    <a:pt x="232" y="433"/>
                  </a:lnTo>
                  <a:lnTo>
                    <a:pt x="272" y="424"/>
                  </a:lnTo>
                  <a:lnTo>
                    <a:pt x="294" y="388"/>
                  </a:lnTo>
                  <a:lnTo>
                    <a:pt x="303" y="325"/>
                  </a:lnTo>
                  <a:lnTo>
                    <a:pt x="210" y="321"/>
                  </a:lnTo>
                  <a:lnTo>
                    <a:pt x="232" y="241"/>
                  </a:lnTo>
                  <a:lnTo>
                    <a:pt x="438" y="241"/>
                  </a:lnTo>
                  <a:lnTo>
                    <a:pt x="376" y="486"/>
                  </a:lnTo>
                  <a:lnTo>
                    <a:pt x="334" y="495"/>
                  </a:lnTo>
                  <a:lnTo>
                    <a:pt x="299" y="504"/>
                  </a:lnTo>
                  <a:lnTo>
                    <a:pt x="263" y="509"/>
                  </a:lnTo>
                  <a:lnTo>
                    <a:pt x="223" y="513"/>
                  </a:lnTo>
                  <a:lnTo>
                    <a:pt x="188" y="513"/>
                  </a:lnTo>
                  <a:lnTo>
                    <a:pt x="147" y="504"/>
                  </a:lnTo>
                  <a:lnTo>
                    <a:pt x="97" y="491"/>
                  </a:lnTo>
                  <a:lnTo>
                    <a:pt x="66" y="473"/>
                  </a:lnTo>
                  <a:lnTo>
                    <a:pt x="22" y="424"/>
                  </a:lnTo>
                  <a:lnTo>
                    <a:pt x="8" y="388"/>
                  </a:lnTo>
                  <a:lnTo>
                    <a:pt x="0" y="352"/>
                  </a:lnTo>
                  <a:lnTo>
                    <a:pt x="4" y="312"/>
                  </a:lnTo>
                  <a:lnTo>
                    <a:pt x="8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bmp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bmp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bmp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bmp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9080" y="-104760"/>
            <a:ext cx="9182160" cy="696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847880" y="1752480"/>
            <a:ext cx="5486400" cy="2666880"/>
          </a:xfrm>
          <a:prstGeom prst="rect">
            <a:avLst/>
          </a:prstGeom>
          <a:gradFill rotWithShape="0">
            <a:gsLst>
              <a:gs pos="0">
                <a:srgbClr val="552d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03520" y="2019240"/>
            <a:ext cx="5734080" cy="23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Management: “Common Sense, But is It Also Common Practice?”</a:t>
            </a:r>
            <a:br>
              <a:rPr sz="3600"/>
            </a:br>
            <a:br>
              <a:rPr sz="3600"/>
            </a:br>
            <a:r>
              <a:rPr b="0" lang="en-US" sz="14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Knowledge Management Feedback Repor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KPMG, November 199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943600" y="6019920"/>
            <a:ext cx="31798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1760" indent="-40176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F.J.I.M. van de Ven, M.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98360" y="6362640"/>
            <a:ext cx="780120" cy="321120"/>
            <a:chOff x="198360" y="6362640"/>
            <a:chExt cx="780120" cy="321120"/>
          </a:xfrm>
        </p:grpSpPr>
        <p:sp>
          <p:nvSpPr>
            <p:cNvPr id="59" name=""/>
            <p:cNvSpPr/>
            <p:nvPr/>
          </p:nvSpPr>
          <p:spPr>
            <a:xfrm>
              <a:off x="235080" y="6362640"/>
              <a:ext cx="174960" cy="262440"/>
            </a:xfrm>
            <a:custGeom>
              <a:avLst/>
              <a:gdLst/>
              <a:ahLst/>
              <a:rect l="0" t="0" r="r" b="b"/>
              <a:pathLst>
                <a:path w="486" h="729">
                  <a:moveTo>
                    <a:pt x="0" y="0"/>
                  </a:moveTo>
                  <a:lnTo>
                    <a:pt x="486" y="0"/>
                  </a:lnTo>
                  <a:lnTo>
                    <a:pt x="486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3720" y="6362640"/>
              <a:ext cx="178200" cy="260640"/>
            </a:xfrm>
            <a:custGeom>
              <a:avLst/>
              <a:gdLst/>
              <a:ahLst/>
              <a:rect l="0" t="0" r="r" b="b"/>
              <a:pathLst>
                <a:path w="495" h="724">
                  <a:moveTo>
                    <a:pt x="0" y="0"/>
                  </a:moveTo>
                  <a:lnTo>
                    <a:pt x="495" y="0"/>
                  </a:lnTo>
                  <a:lnTo>
                    <a:pt x="495" y="724"/>
                  </a:lnTo>
                  <a:lnTo>
                    <a:pt x="0" y="7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5960" y="6362640"/>
              <a:ext cx="176400" cy="262440"/>
            </a:xfrm>
            <a:custGeom>
              <a:avLst/>
              <a:gdLst/>
              <a:ahLst/>
              <a:rect l="0" t="0" r="r" b="b"/>
              <a:pathLst>
                <a:path w="490" h="729">
                  <a:moveTo>
                    <a:pt x="0" y="0"/>
                  </a:moveTo>
                  <a:lnTo>
                    <a:pt x="490" y="0"/>
                  </a:lnTo>
                  <a:lnTo>
                    <a:pt x="490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4960" y="6362640"/>
              <a:ext cx="173520" cy="262440"/>
            </a:xfrm>
            <a:custGeom>
              <a:avLst/>
              <a:gdLst/>
              <a:ahLst/>
              <a:rect l="0" t="0" r="r" b="b"/>
              <a:pathLst>
                <a:path w="482" h="729">
                  <a:moveTo>
                    <a:pt x="0" y="0"/>
                  </a:moveTo>
                  <a:lnTo>
                    <a:pt x="482" y="0"/>
                  </a:lnTo>
                  <a:lnTo>
                    <a:pt x="482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8360" y="6504120"/>
              <a:ext cx="189360" cy="176400"/>
            </a:xfrm>
            <a:custGeom>
              <a:avLst/>
              <a:gdLst/>
              <a:ahLst/>
              <a:rect l="0" t="0" r="r" b="b"/>
              <a:pathLst>
                <a:path w="526" h="490">
                  <a:moveTo>
                    <a:pt x="0" y="490"/>
                  </a:moveTo>
                  <a:lnTo>
                    <a:pt x="138" y="0"/>
                  </a:lnTo>
                  <a:lnTo>
                    <a:pt x="254" y="0"/>
                  </a:lnTo>
                  <a:lnTo>
                    <a:pt x="187" y="204"/>
                  </a:lnTo>
                  <a:lnTo>
                    <a:pt x="392" y="0"/>
                  </a:lnTo>
                  <a:lnTo>
                    <a:pt x="526" y="0"/>
                  </a:lnTo>
                  <a:lnTo>
                    <a:pt x="294" y="231"/>
                  </a:lnTo>
                  <a:lnTo>
                    <a:pt x="415" y="486"/>
                  </a:lnTo>
                  <a:lnTo>
                    <a:pt x="294" y="486"/>
                  </a:lnTo>
                  <a:lnTo>
                    <a:pt x="187" y="231"/>
                  </a:lnTo>
                  <a:lnTo>
                    <a:pt x="106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3600" y="6502320"/>
              <a:ext cx="170280" cy="179640"/>
            </a:xfrm>
            <a:custGeom>
              <a:avLst/>
              <a:gdLst/>
              <a:ahLst/>
              <a:rect l="0" t="0" r="r" b="b"/>
              <a:pathLst>
                <a:path w="473" h="499">
                  <a:moveTo>
                    <a:pt x="0" y="499"/>
                  </a:moveTo>
                  <a:lnTo>
                    <a:pt x="144" y="0"/>
                  </a:lnTo>
                  <a:lnTo>
                    <a:pt x="329" y="0"/>
                  </a:lnTo>
                  <a:lnTo>
                    <a:pt x="397" y="4"/>
                  </a:lnTo>
                  <a:lnTo>
                    <a:pt x="424" y="13"/>
                  </a:lnTo>
                  <a:lnTo>
                    <a:pt x="437" y="17"/>
                  </a:lnTo>
                  <a:lnTo>
                    <a:pt x="446" y="31"/>
                  </a:lnTo>
                  <a:lnTo>
                    <a:pt x="464" y="62"/>
                  </a:lnTo>
                  <a:lnTo>
                    <a:pt x="473" y="129"/>
                  </a:lnTo>
                  <a:lnTo>
                    <a:pt x="469" y="155"/>
                  </a:lnTo>
                  <a:lnTo>
                    <a:pt x="451" y="213"/>
                  </a:lnTo>
                  <a:lnTo>
                    <a:pt x="437" y="226"/>
                  </a:lnTo>
                  <a:lnTo>
                    <a:pt x="424" y="250"/>
                  </a:lnTo>
                  <a:lnTo>
                    <a:pt x="383" y="272"/>
                  </a:lnTo>
                  <a:lnTo>
                    <a:pt x="365" y="285"/>
                  </a:lnTo>
                  <a:lnTo>
                    <a:pt x="329" y="299"/>
                  </a:lnTo>
                  <a:lnTo>
                    <a:pt x="279" y="303"/>
                  </a:lnTo>
                  <a:lnTo>
                    <a:pt x="171" y="303"/>
                  </a:lnTo>
                  <a:lnTo>
                    <a:pt x="98" y="499"/>
                  </a:lnTo>
                  <a:lnTo>
                    <a:pt x="0" y="499"/>
                  </a:lnTo>
                  <a:lnTo>
                    <a:pt x="180" y="226"/>
                  </a:lnTo>
                  <a:lnTo>
                    <a:pt x="288" y="226"/>
                  </a:lnTo>
                  <a:lnTo>
                    <a:pt x="320" y="218"/>
                  </a:lnTo>
                  <a:lnTo>
                    <a:pt x="347" y="200"/>
                  </a:lnTo>
                  <a:lnTo>
                    <a:pt x="365" y="186"/>
                  </a:lnTo>
                  <a:lnTo>
                    <a:pt x="374" y="169"/>
                  </a:lnTo>
                  <a:lnTo>
                    <a:pt x="379" y="146"/>
                  </a:lnTo>
                  <a:lnTo>
                    <a:pt x="379" y="124"/>
                  </a:lnTo>
                  <a:lnTo>
                    <a:pt x="374" y="111"/>
                  </a:lnTo>
                  <a:lnTo>
                    <a:pt x="361" y="93"/>
                  </a:lnTo>
                  <a:lnTo>
                    <a:pt x="347" y="80"/>
                  </a:lnTo>
                  <a:lnTo>
                    <a:pt x="329" y="80"/>
                  </a:lnTo>
                  <a:lnTo>
                    <a:pt x="225" y="80"/>
                  </a:lnTo>
                  <a:lnTo>
                    <a:pt x="180" y="226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5880" y="6502320"/>
              <a:ext cx="248040" cy="178200"/>
            </a:xfrm>
            <a:custGeom>
              <a:avLst/>
              <a:gdLst/>
              <a:ahLst/>
              <a:rect l="0" t="0" r="r" b="b"/>
              <a:pathLst>
                <a:path w="689" h="495">
                  <a:moveTo>
                    <a:pt x="0" y="495"/>
                  </a:moveTo>
                  <a:lnTo>
                    <a:pt x="137" y="8"/>
                  </a:lnTo>
                  <a:lnTo>
                    <a:pt x="298" y="8"/>
                  </a:lnTo>
                  <a:lnTo>
                    <a:pt x="298" y="40"/>
                  </a:lnTo>
                  <a:lnTo>
                    <a:pt x="302" y="84"/>
                  </a:lnTo>
                  <a:lnTo>
                    <a:pt x="307" y="130"/>
                  </a:lnTo>
                  <a:lnTo>
                    <a:pt x="311" y="178"/>
                  </a:lnTo>
                  <a:lnTo>
                    <a:pt x="311" y="223"/>
                  </a:lnTo>
                  <a:lnTo>
                    <a:pt x="311" y="276"/>
                  </a:lnTo>
                  <a:lnTo>
                    <a:pt x="311" y="321"/>
                  </a:lnTo>
                  <a:lnTo>
                    <a:pt x="311" y="380"/>
                  </a:lnTo>
                  <a:lnTo>
                    <a:pt x="324" y="348"/>
                  </a:lnTo>
                  <a:lnTo>
                    <a:pt x="351" y="299"/>
                  </a:lnTo>
                  <a:lnTo>
                    <a:pt x="373" y="250"/>
                  </a:lnTo>
                  <a:lnTo>
                    <a:pt x="404" y="201"/>
                  </a:lnTo>
                  <a:lnTo>
                    <a:pt x="431" y="152"/>
                  </a:lnTo>
                  <a:lnTo>
                    <a:pt x="458" y="106"/>
                  </a:lnTo>
                  <a:lnTo>
                    <a:pt x="489" y="57"/>
                  </a:lnTo>
                  <a:lnTo>
                    <a:pt x="530" y="0"/>
                  </a:lnTo>
                  <a:lnTo>
                    <a:pt x="689" y="0"/>
                  </a:lnTo>
                  <a:lnTo>
                    <a:pt x="574" y="491"/>
                  </a:lnTo>
                  <a:lnTo>
                    <a:pt x="462" y="491"/>
                  </a:lnTo>
                  <a:lnTo>
                    <a:pt x="552" y="134"/>
                  </a:lnTo>
                  <a:lnTo>
                    <a:pt x="324" y="491"/>
                  </a:lnTo>
                  <a:lnTo>
                    <a:pt x="227" y="491"/>
                  </a:lnTo>
                  <a:lnTo>
                    <a:pt x="200" y="115"/>
                  </a:lnTo>
                  <a:lnTo>
                    <a:pt x="93" y="495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0320" y="6499080"/>
              <a:ext cx="165600" cy="184680"/>
            </a:xfrm>
            <a:custGeom>
              <a:avLst/>
              <a:gdLst/>
              <a:ahLst/>
              <a:rect l="0" t="0" r="r" b="b"/>
              <a:pathLst>
                <a:path w="460" h="513">
                  <a:moveTo>
                    <a:pt x="8" y="281"/>
                  </a:moveTo>
                  <a:lnTo>
                    <a:pt x="22" y="223"/>
                  </a:lnTo>
                  <a:lnTo>
                    <a:pt x="31" y="187"/>
                  </a:lnTo>
                  <a:lnTo>
                    <a:pt x="57" y="129"/>
                  </a:lnTo>
                  <a:lnTo>
                    <a:pt x="89" y="84"/>
                  </a:lnTo>
                  <a:lnTo>
                    <a:pt x="125" y="53"/>
                  </a:lnTo>
                  <a:lnTo>
                    <a:pt x="165" y="26"/>
                  </a:lnTo>
                  <a:lnTo>
                    <a:pt x="214" y="8"/>
                  </a:lnTo>
                  <a:lnTo>
                    <a:pt x="268" y="4"/>
                  </a:lnTo>
                  <a:lnTo>
                    <a:pt x="312" y="0"/>
                  </a:lnTo>
                  <a:lnTo>
                    <a:pt x="349" y="4"/>
                  </a:lnTo>
                  <a:lnTo>
                    <a:pt x="393" y="22"/>
                  </a:lnTo>
                  <a:lnTo>
                    <a:pt x="429" y="40"/>
                  </a:lnTo>
                  <a:lnTo>
                    <a:pt x="451" y="84"/>
                  </a:lnTo>
                  <a:lnTo>
                    <a:pt x="460" y="120"/>
                  </a:lnTo>
                  <a:lnTo>
                    <a:pt x="451" y="174"/>
                  </a:lnTo>
                  <a:lnTo>
                    <a:pt x="353" y="174"/>
                  </a:lnTo>
                  <a:lnTo>
                    <a:pt x="362" y="138"/>
                  </a:lnTo>
                  <a:lnTo>
                    <a:pt x="349" y="102"/>
                  </a:lnTo>
                  <a:lnTo>
                    <a:pt x="308" y="88"/>
                  </a:lnTo>
                  <a:lnTo>
                    <a:pt x="268" y="88"/>
                  </a:lnTo>
                  <a:lnTo>
                    <a:pt x="232" y="93"/>
                  </a:lnTo>
                  <a:lnTo>
                    <a:pt x="196" y="115"/>
                  </a:lnTo>
                  <a:lnTo>
                    <a:pt x="165" y="147"/>
                  </a:lnTo>
                  <a:lnTo>
                    <a:pt x="139" y="192"/>
                  </a:lnTo>
                  <a:lnTo>
                    <a:pt x="121" y="241"/>
                  </a:lnTo>
                  <a:lnTo>
                    <a:pt x="111" y="263"/>
                  </a:lnTo>
                  <a:lnTo>
                    <a:pt x="106" y="303"/>
                  </a:lnTo>
                  <a:lnTo>
                    <a:pt x="106" y="347"/>
                  </a:lnTo>
                  <a:lnTo>
                    <a:pt x="121" y="388"/>
                  </a:lnTo>
                  <a:lnTo>
                    <a:pt x="156" y="420"/>
                  </a:lnTo>
                  <a:lnTo>
                    <a:pt x="201" y="433"/>
                  </a:lnTo>
                  <a:lnTo>
                    <a:pt x="232" y="433"/>
                  </a:lnTo>
                  <a:lnTo>
                    <a:pt x="272" y="424"/>
                  </a:lnTo>
                  <a:lnTo>
                    <a:pt x="294" y="388"/>
                  </a:lnTo>
                  <a:lnTo>
                    <a:pt x="303" y="325"/>
                  </a:lnTo>
                  <a:lnTo>
                    <a:pt x="210" y="321"/>
                  </a:lnTo>
                  <a:lnTo>
                    <a:pt x="232" y="241"/>
                  </a:lnTo>
                  <a:lnTo>
                    <a:pt x="438" y="241"/>
                  </a:lnTo>
                  <a:lnTo>
                    <a:pt x="376" y="486"/>
                  </a:lnTo>
                  <a:lnTo>
                    <a:pt x="334" y="495"/>
                  </a:lnTo>
                  <a:lnTo>
                    <a:pt x="299" y="504"/>
                  </a:lnTo>
                  <a:lnTo>
                    <a:pt x="263" y="509"/>
                  </a:lnTo>
                  <a:lnTo>
                    <a:pt x="223" y="513"/>
                  </a:lnTo>
                  <a:lnTo>
                    <a:pt x="188" y="513"/>
                  </a:lnTo>
                  <a:lnTo>
                    <a:pt x="147" y="504"/>
                  </a:lnTo>
                  <a:lnTo>
                    <a:pt x="97" y="491"/>
                  </a:lnTo>
                  <a:lnTo>
                    <a:pt x="66" y="473"/>
                  </a:lnTo>
                  <a:lnTo>
                    <a:pt x="22" y="424"/>
                  </a:lnTo>
                  <a:lnTo>
                    <a:pt x="8" y="388"/>
                  </a:lnTo>
                  <a:lnTo>
                    <a:pt x="0" y="352"/>
                  </a:lnTo>
                  <a:lnTo>
                    <a:pt x="4" y="312"/>
                  </a:lnTo>
                  <a:lnTo>
                    <a:pt x="8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ents’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73200" y="1306440"/>
            <a:ext cx="7792920" cy="3743280"/>
            <a:chOff x="673200" y="1306440"/>
            <a:chExt cx="7792920" cy="3743280"/>
          </a:xfrm>
        </p:grpSpPr>
        <p:sp>
          <p:nvSpPr>
            <p:cNvPr id="158" name=""/>
            <p:cNvSpPr/>
            <p:nvPr/>
          </p:nvSpPr>
          <p:spPr>
            <a:xfrm>
              <a:off x="673200" y="1306440"/>
              <a:ext cx="7792920" cy="37432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865080" y="1459080"/>
              <a:ext cx="7414200" cy="3441600"/>
              <a:chOff x="865080" y="1459080"/>
              <a:chExt cx="7414200" cy="3441600"/>
            </a:xfrm>
          </p:grpSpPr>
          <p:sp>
            <p:nvSpPr>
              <p:cNvPr id="160" name=""/>
              <p:cNvSpPr/>
              <p:nvPr/>
            </p:nvSpPr>
            <p:spPr>
              <a:xfrm>
                <a:off x="1235160" y="1609560"/>
                <a:ext cx="7044120" cy="2775240"/>
              </a:xfrm>
              <a:custGeom>
                <a:avLst/>
                <a:gdLst/>
                <a:ahLst/>
                <a:rect l="0" t="0" r="r" b="b"/>
                <a:pathLst>
                  <a:path w="19567" h="7709">
                    <a:moveTo>
                      <a:pt x="0" y="0"/>
                    </a:moveTo>
                    <a:lnTo>
                      <a:pt x="19567" y="0"/>
                    </a:lnTo>
                    <a:lnTo>
                      <a:pt x="19567" y="7709"/>
                    </a:lnTo>
                    <a:lnTo>
                      <a:pt x="0" y="77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235160" y="1609560"/>
                <a:ext cx="7044120" cy="2775240"/>
              </a:xfrm>
              <a:custGeom>
                <a:avLst/>
                <a:gdLst/>
                <a:ahLst/>
                <a:rect l="0" t="0" r="r" b="b"/>
                <a:pathLst>
                  <a:path fill="none" w="19567" h="7709">
                    <a:moveTo>
                      <a:pt x="0" y="0"/>
                    </a:moveTo>
                    <a:lnTo>
                      <a:pt x="19567" y="0"/>
                    </a:lnTo>
                    <a:lnTo>
                      <a:pt x="19567" y="7709"/>
                    </a:lnTo>
                    <a:lnTo>
                      <a:pt x="0" y="770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71680" y="3151080"/>
                <a:ext cx="305280" cy="1233720"/>
              </a:xfrm>
              <a:custGeom>
                <a:avLst/>
                <a:gdLst/>
                <a:ahLst/>
                <a:rect l="0" t="0" r="r" b="b"/>
                <a:pathLst>
                  <a:path w="848" h="3427">
                    <a:moveTo>
                      <a:pt x="0" y="0"/>
                    </a:moveTo>
                    <a:lnTo>
                      <a:pt x="848" y="0"/>
                    </a:lnTo>
                    <a:lnTo>
                      <a:pt x="848" y="3427"/>
                    </a:lnTo>
                    <a:lnTo>
                      <a:pt x="0" y="3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47840" y="3151080"/>
                <a:ext cx="319320" cy="1233720"/>
              </a:xfrm>
              <a:custGeom>
                <a:avLst/>
                <a:gdLst/>
                <a:ahLst/>
                <a:rect l="0" t="0" r="r" b="b"/>
                <a:pathLst>
                  <a:path w="887" h="3427">
                    <a:moveTo>
                      <a:pt x="0" y="0"/>
                    </a:moveTo>
                    <a:lnTo>
                      <a:pt x="887" y="0"/>
                    </a:lnTo>
                    <a:lnTo>
                      <a:pt x="887" y="3427"/>
                    </a:lnTo>
                    <a:lnTo>
                      <a:pt x="0" y="3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038400" y="2535120"/>
                <a:ext cx="305280" cy="1849680"/>
              </a:xfrm>
              <a:custGeom>
                <a:avLst/>
                <a:gdLst/>
                <a:ahLst/>
                <a:rect l="0" t="0" r="r" b="b"/>
                <a:pathLst>
                  <a:path w="848" h="5138">
                    <a:moveTo>
                      <a:pt x="0" y="0"/>
                    </a:moveTo>
                    <a:lnTo>
                      <a:pt x="848" y="0"/>
                    </a:lnTo>
                    <a:lnTo>
                      <a:pt x="848" y="5138"/>
                    </a:lnTo>
                    <a:lnTo>
                      <a:pt x="0" y="5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814920" y="1919160"/>
                <a:ext cx="319320" cy="2465640"/>
              </a:xfrm>
              <a:custGeom>
                <a:avLst/>
                <a:gdLst/>
                <a:ahLst/>
                <a:rect l="0" t="0" r="r" b="b"/>
                <a:pathLst>
                  <a:path w="887" h="6849">
                    <a:moveTo>
                      <a:pt x="0" y="0"/>
                    </a:moveTo>
                    <a:lnTo>
                      <a:pt x="887" y="0"/>
                    </a:lnTo>
                    <a:lnTo>
                      <a:pt x="887" y="6849"/>
                    </a:lnTo>
                    <a:lnTo>
                      <a:pt x="0" y="68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605480" y="1919160"/>
                <a:ext cx="305280" cy="2465640"/>
              </a:xfrm>
              <a:custGeom>
                <a:avLst/>
                <a:gdLst/>
                <a:ahLst/>
                <a:rect l="0" t="0" r="r" b="b"/>
                <a:pathLst>
                  <a:path w="848" h="6849">
                    <a:moveTo>
                      <a:pt x="0" y="0"/>
                    </a:moveTo>
                    <a:lnTo>
                      <a:pt x="848" y="0"/>
                    </a:lnTo>
                    <a:lnTo>
                      <a:pt x="848" y="6849"/>
                    </a:lnTo>
                    <a:lnTo>
                      <a:pt x="0" y="68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81640" y="2535120"/>
                <a:ext cx="319320" cy="1849680"/>
              </a:xfrm>
              <a:custGeom>
                <a:avLst/>
                <a:gdLst/>
                <a:ahLst/>
                <a:rect l="0" t="0" r="r" b="b"/>
                <a:pathLst>
                  <a:path w="887" h="5138">
                    <a:moveTo>
                      <a:pt x="0" y="0"/>
                    </a:moveTo>
                    <a:lnTo>
                      <a:pt x="887" y="0"/>
                    </a:lnTo>
                    <a:lnTo>
                      <a:pt x="887" y="5138"/>
                    </a:lnTo>
                    <a:lnTo>
                      <a:pt x="0" y="5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172200" y="2535120"/>
                <a:ext cx="305280" cy="1849680"/>
              </a:xfrm>
              <a:custGeom>
                <a:avLst/>
                <a:gdLst/>
                <a:ahLst/>
                <a:rect l="0" t="0" r="r" b="b"/>
                <a:pathLst>
                  <a:path w="848" h="5138">
                    <a:moveTo>
                      <a:pt x="0" y="0"/>
                    </a:moveTo>
                    <a:lnTo>
                      <a:pt x="848" y="0"/>
                    </a:lnTo>
                    <a:lnTo>
                      <a:pt x="848" y="5138"/>
                    </a:lnTo>
                    <a:lnTo>
                      <a:pt x="0" y="5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48360" y="3151080"/>
                <a:ext cx="319320" cy="1233720"/>
              </a:xfrm>
              <a:custGeom>
                <a:avLst/>
                <a:gdLst/>
                <a:ahLst/>
                <a:rect l="0" t="0" r="r" b="b"/>
                <a:pathLst>
                  <a:path w="887" h="3427">
                    <a:moveTo>
                      <a:pt x="0" y="0"/>
                    </a:moveTo>
                    <a:lnTo>
                      <a:pt x="887" y="0"/>
                    </a:lnTo>
                    <a:lnTo>
                      <a:pt x="887" y="3427"/>
                    </a:lnTo>
                    <a:lnTo>
                      <a:pt x="0" y="3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738920" y="3151080"/>
                <a:ext cx="305280" cy="1233720"/>
              </a:xfrm>
              <a:custGeom>
                <a:avLst/>
                <a:gdLst/>
                <a:ahLst/>
                <a:rect l="0" t="0" r="r" b="b"/>
                <a:pathLst>
                  <a:path w="848" h="3427">
                    <a:moveTo>
                      <a:pt x="0" y="0"/>
                    </a:moveTo>
                    <a:lnTo>
                      <a:pt x="848" y="0"/>
                    </a:lnTo>
                    <a:lnTo>
                      <a:pt x="848" y="3427"/>
                    </a:lnTo>
                    <a:lnTo>
                      <a:pt x="0" y="3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35160" y="1609560"/>
                <a:ext cx="0" cy="27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93760" y="438480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93760" y="407664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93760" y="376704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193760" y="345924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93760" y="315108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93760" y="284328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93760" y="253512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93760" y="222732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93760" y="191916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93760" y="160956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235160" y="4384800"/>
                <a:ext cx="704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23516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01132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80188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57840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436896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514512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593568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671184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50240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8278920" y="43308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1490760" y="282564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2266920" y="282564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3002040" y="220968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3790800" y="159372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4581360" y="159372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5357880" y="220968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6135840" y="220968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6967440" y="282564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7756560" y="282564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949320" y="423396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949320" y="392436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949320" y="361620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949320" y="330840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949320" y="3000240"/>
                <a:ext cx="26820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865080" y="269244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865080" y="238428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865080" y="207648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865080" y="1768320"/>
                <a:ext cx="353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865080" y="1459080"/>
                <a:ext cx="53172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%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1171440" y="4437000"/>
                <a:ext cx="91584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s/Fin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Servic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2030400" y="4437000"/>
                <a:ext cx="70812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ail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Dist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3033720" y="4437000"/>
                <a:ext cx="343080" cy="27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3537000" y="4437000"/>
                <a:ext cx="865080" cy="27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lec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4411800" y="4437000"/>
                <a:ext cx="70812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ec-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onic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5146560" y="4437000"/>
                <a:ext cx="80640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hem.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amp; Foo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5918040" y="4446720"/>
                <a:ext cx="77796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gi-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6740640" y="4437000"/>
                <a:ext cx="747720" cy="27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erg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7564320" y="4437000"/>
                <a:ext cx="628560" cy="27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th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"/>
          <p:cNvSpPr txBox="1"/>
          <p:nvPr/>
        </p:nvSpPr>
        <p:spPr>
          <a:xfrm>
            <a:off x="646200" y="5716440"/>
            <a:ext cx="8540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Respondents were from various indus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992160" y="1287360"/>
            <a:ext cx="7156440" cy="4564080"/>
          </a:xfrm>
          <a:prstGeom prst="rect">
            <a:avLst/>
          </a:prstGeom>
          <a:solidFill>
            <a:srgbClr val="feffa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ents’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82840" y="1481040"/>
            <a:ext cx="617364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ompanies perceived their KM position a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589040" y="2082960"/>
            <a:ext cx="3328920" cy="3323880"/>
            <a:chOff x="1589040" y="2082960"/>
            <a:chExt cx="3328920" cy="3323880"/>
          </a:xfrm>
        </p:grpSpPr>
        <p:sp>
          <p:nvSpPr>
            <p:cNvPr id="226" name=""/>
            <p:cNvSpPr/>
            <p:nvPr/>
          </p:nvSpPr>
          <p:spPr>
            <a:xfrm>
              <a:off x="3222360" y="2082960"/>
              <a:ext cx="1418040" cy="1662840"/>
            </a:xfrm>
            <a:custGeom>
              <a:avLst/>
              <a:gdLst/>
              <a:ahLst/>
              <a:rect l="0" t="0" r="r" b="b"/>
              <a:pathLst>
                <a:path w="3939" h="4619">
                  <a:moveTo>
                    <a:pt x="90" y="4619"/>
                  </a:moveTo>
                  <a:lnTo>
                    <a:pt x="3939" y="2058"/>
                  </a:lnTo>
                  <a:lnTo>
                    <a:pt x="3939" y="2058"/>
                  </a:lnTo>
                  <a:cubicBezTo>
                    <a:pt x="3544" y="1467"/>
                    <a:pt x="3019" y="974"/>
                    <a:pt x="2402" y="619"/>
                  </a:cubicBezTo>
                  <a:cubicBezTo>
                    <a:pt x="1699" y="214"/>
                    <a:pt x="901" y="0"/>
                    <a:pt x="90" y="0"/>
                  </a:cubicBezTo>
                  <a:cubicBezTo>
                    <a:pt x="60" y="0"/>
                    <a:pt x="30" y="0"/>
                    <a:pt x="0" y="1"/>
                  </a:cubicBezTo>
                  <a:lnTo>
                    <a:pt x="90" y="4619"/>
                  </a:lnTo>
                  <a:close/>
                </a:path>
              </a:pathLst>
            </a:custGeom>
            <a:solidFill>
              <a:srgbClr val="30c2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89040" y="2821680"/>
              <a:ext cx="3328920" cy="2585160"/>
            </a:xfrm>
            <a:custGeom>
              <a:avLst/>
              <a:gdLst/>
              <a:ahLst/>
              <a:rect l="0" t="0" r="r" b="b"/>
              <a:pathLst>
                <a:path w="9247" h="7181">
                  <a:moveTo>
                    <a:pt x="4623" y="2562"/>
                  </a:moveTo>
                  <a:lnTo>
                    <a:pt x="21" y="2119"/>
                  </a:lnTo>
                  <a:lnTo>
                    <a:pt x="21" y="2119"/>
                  </a:lnTo>
                  <a:cubicBezTo>
                    <a:pt x="7" y="2266"/>
                    <a:pt x="0" y="2414"/>
                    <a:pt x="0" y="2562"/>
                  </a:cubicBezTo>
                  <a:cubicBezTo>
                    <a:pt x="0" y="3372"/>
                    <a:pt x="213" y="4169"/>
                    <a:pt x="619" y="4871"/>
                  </a:cubicBezTo>
                  <a:cubicBezTo>
                    <a:pt x="1025" y="5574"/>
                    <a:pt x="1609" y="6157"/>
                    <a:pt x="2312" y="6562"/>
                  </a:cubicBezTo>
                  <a:cubicBezTo>
                    <a:pt x="3014" y="6968"/>
                    <a:pt x="3812" y="7181"/>
                    <a:pt x="4623" y="7181"/>
                  </a:cubicBezTo>
                  <a:cubicBezTo>
                    <a:pt x="5435" y="7181"/>
                    <a:pt x="6232" y="6968"/>
                    <a:pt x="6935" y="6562"/>
                  </a:cubicBezTo>
                  <a:cubicBezTo>
                    <a:pt x="7638" y="6157"/>
                    <a:pt x="8222" y="5574"/>
                    <a:pt x="8627" y="4871"/>
                  </a:cubicBezTo>
                  <a:cubicBezTo>
                    <a:pt x="9033" y="4169"/>
                    <a:pt x="9247" y="3372"/>
                    <a:pt x="9247" y="2562"/>
                  </a:cubicBezTo>
                  <a:cubicBezTo>
                    <a:pt x="9247" y="1751"/>
                    <a:pt x="9033" y="954"/>
                    <a:pt x="8627" y="252"/>
                  </a:cubicBezTo>
                  <a:cubicBezTo>
                    <a:pt x="8578" y="166"/>
                    <a:pt x="8526" y="82"/>
                    <a:pt x="8471" y="0"/>
                  </a:cubicBezTo>
                  <a:lnTo>
                    <a:pt x="4623" y="2562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98400" y="2082960"/>
              <a:ext cx="1657080" cy="1662120"/>
            </a:xfrm>
            <a:custGeom>
              <a:avLst/>
              <a:gdLst/>
              <a:ahLst/>
              <a:rect l="0" t="0" r="r" b="b"/>
              <a:pathLst>
                <a:path w="4603" h="4617">
                  <a:moveTo>
                    <a:pt x="4603" y="4617"/>
                  </a:moveTo>
                  <a:lnTo>
                    <a:pt x="4512" y="0"/>
                  </a:lnTo>
                  <a:lnTo>
                    <a:pt x="4512" y="0"/>
                  </a:lnTo>
                  <a:cubicBezTo>
                    <a:pt x="3731" y="15"/>
                    <a:pt x="2967" y="228"/>
                    <a:pt x="2291" y="618"/>
                  </a:cubicBezTo>
                  <a:cubicBezTo>
                    <a:pt x="1588" y="1023"/>
                    <a:pt x="1004" y="1606"/>
                    <a:pt x="598" y="2308"/>
                  </a:cubicBezTo>
                  <a:cubicBezTo>
                    <a:pt x="267" y="2880"/>
                    <a:pt x="63" y="3516"/>
                    <a:pt x="0" y="4174"/>
                  </a:cubicBezTo>
                  <a:lnTo>
                    <a:pt x="4603" y="4617"/>
                  </a:lnTo>
                  <a:close/>
                </a:path>
              </a:pathLst>
            </a:custGeom>
            <a:solidFill>
              <a:srgbClr val="9900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303720" y="2486160"/>
              <a:ext cx="977760" cy="496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2752560" y="4284720"/>
              <a:ext cx="977760" cy="496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135160" y="2741760"/>
              <a:ext cx="977760" cy="496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5532480" y="3025800"/>
            <a:ext cx="212076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30c200"/>
              </a:buClr>
              <a:buSzPct val="120000"/>
              <a:buFont typeface="Wingdings"/>
              <a:buChar char=""/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Lead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2f2fff"/>
              </a:buClr>
              <a:buSzPct val="120000"/>
              <a:buFont typeface="Wingdings"/>
              <a:buChar char=""/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termedi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990066"/>
              </a:buClr>
              <a:buSzPct val="120000"/>
              <a:buFont typeface="Wingdings"/>
              <a:buChar char=""/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Lagging behi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Environment Changes Dramatically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the Next Five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95120" y="1849320"/>
            <a:ext cx="8764920" cy="3505320"/>
            <a:chOff x="195120" y="1849320"/>
            <a:chExt cx="8764920" cy="3505320"/>
          </a:xfrm>
        </p:grpSpPr>
        <p:sp>
          <p:nvSpPr>
            <p:cNvPr id="235" name=""/>
            <p:cNvSpPr/>
            <p:nvPr/>
          </p:nvSpPr>
          <p:spPr>
            <a:xfrm>
              <a:off x="195120" y="1849320"/>
              <a:ext cx="8750160" cy="350532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16320" y="2057400"/>
              <a:ext cx="6233040" cy="2941920"/>
            </a:xfrm>
            <a:custGeom>
              <a:avLst/>
              <a:gdLst/>
              <a:ahLst/>
              <a:rect l="0" t="0" r="r" b="b"/>
              <a:pathLst>
                <a:path w="17314" h="8172">
                  <a:moveTo>
                    <a:pt x="0" y="0"/>
                  </a:moveTo>
                  <a:lnTo>
                    <a:pt x="17314" y="0"/>
                  </a:lnTo>
                  <a:lnTo>
                    <a:pt x="17314" y="8172"/>
                  </a:lnTo>
                  <a:lnTo>
                    <a:pt x="0" y="8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3516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6552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8292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1328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3248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4988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8024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9944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2944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48640" y="20574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16320" y="2057400"/>
              <a:ext cx="6233040" cy="2941920"/>
            </a:xfrm>
            <a:custGeom>
              <a:avLst/>
              <a:gdLst/>
              <a:ahLst/>
              <a:rect l="0" t="0" r="r" b="b"/>
              <a:pathLst>
                <a:path fill="none" w="17314" h="8172">
                  <a:moveTo>
                    <a:pt x="0" y="0"/>
                  </a:moveTo>
                  <a:lnTo>
                    <a:pt x="17314" y="0"/>
                  </a:lnTo>
                  <a:lnTo>
                    <a:pt x="17314" y="8172"/>
                  </a:lnTo>
                  <a:lnTo>
                    <a:pt x="0" y="81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16320" y="4708440"/>
              <a:ext cx="1249560" cy="163800"/>
            </a:xfrm>
            <a:custGeom>
              <a:avLst/>
              <a:gdLst/>
              <a:ahLst/>
              <a:rect l="0" t="0" r="r" b="b"/>
              <a:pathLst>
                <a:path w="3471" h="455">
                  <a:moveTo>
                    <a:pt x="0" y="0"/>
                  </a:moveTo>
                  <a:lnTo>
                    <a:pt x="3471" y="0"/>
                  </a:lnTo>
                  <a:lnTo>
                    <a:pt x="3471" y="455"/>
                  </a:lnTo>
                  <a:lnTo>
                    <a:pt x="0" y="4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16320" y="4281480"/>
              <a:ext cx="4237560" cy="173520"/>
            </a:xfrm>
            <a:custGeom>
              <a:avLst/>
              <a:gdLst/>
              <a:ahLst/>
              <a:rect l="0" t="0" r="r" b="b"/>
              <a:pathLst>
                <a:path w="11771" h="482">
                  <a:moveTo>
                    <a:pt x="0" y="0"/>
                  </a:moveTo>
                  <a:lnTo>
                    <a:pt x="11771" y="0"/>
                  </a:lnTo>
                  <a:lnTo>
                    <a:pt x="11771" y="482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16320" y="3863880"/>
              <a:ext cx="4739040" cy="162360"/>
            </a:xfrm>
            <a:custGeom>
              <a:avLst/>
              <a:gdLst/>
              <a:ahLst/>
              <a:rect l="0" t="0" r="r" b="b"/>
              <a:pathLst>
                <a:path w="13164" h="451">
                  <a:moveTo>
                    <a:pt x="0" y="0"/>
                  </a:moveTo>
                  <a:lnTo>
                    <a:pt x="13164" y="0"/>
                  </a:lnTo>
                  <a:lnTo>
                    <a:pt x="13164" y="451"/>
                  </a:lnTo>
                  <a:lnTo>
                    <a:pt x="0" y="4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16320" y="3448080"/>
              <a:ext cx="4983480" cy="162360"/>
            </a:xfrm>
            <a:custGeom>
              <a:avLst/>
              <a:gdLst/>
              <a:ahLst/>
              <a:rect l="0" t="0" r="r" b="b"/>
              <a:pathLst>
                <a:path w="13843" h="451">
                  <a:moveTo>
                    <a:pt x="0" y="0"/>
                  </a:moveTo>
                  <a:lnTo>
                    <a:pt x="13843" y="0"/>
                  </a:lnTo>
                  <a:lnTo>
                    <a:pt x="13843" y="451"/>
                  </a:lnTo>
                  <a:lnTo>
                    <a:pt x="0" y="4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16320" y="3030480"/>
              <a:ext cx="1995840" cy="162360"/>
            </a:xfrm>
            <a:custGeom>
              <a:avLst/>
              <a:gdLst/>
              <a:ahLst/>
              <a:rect l="0" t="0" r="r" b="b"/>
              <a:pathLst>
                <a:path w="5544" h="451">
                  <a:moveTo>
                    <a:pt x="0" y="0"/>
                  </a:moveTo>
                  <a:lnTo>
                    <a:pt x="5544" y="0"/>
                  </a:lnTo>
                  <a:lnTo>
                    <a:pt x="5544" y="451"/>
                  </a:lnTo>
                  <a:lnTo>
                    <a:pt x="0" y="4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16320" y="2602080"/>
              <a:ext cx="3489840" cy="174960"/>
            </a:xfrm>
            <a:custGeom>
              <a:avLst/>
              <a:gdLst/>
              <a:ahLst/>
              <a:rect l="0" t="0" r="r" b="b"/>
              <a:pathLst>
                <a:path w="9694" h="486">
                  <a:moveTo>
                    <a:pt x="0" y="0"/>
                  </a:moveTo>
                  <a:lnTo>
                    <a:pt x="9694" y="0"/>
                  </a:lnTo>
                  <a:lnTo>
                    <a:pt x="9694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16320" y="2185920"/>
              <a:ext cx="1751400" cy="162360"/>
            </a:xfrm>
            <a:custGeom>
              <a:avLst/>
              <a:gdLst/>
              <a:ahLst/>
              <a:rect l="0" t="0" r="r" b="b"/>
              <a:pathLst>
                <a:path w="4865" h="451">
                  <a:moveTo>
                    <a:pt x="0" y="0"/>
                  </a:moveTo>
                  <a:lnTo>
                    <a:pt x="4865" y="0"/>
                  </a:lnTo>
                  <a:lnTo>
                    <a:pt x="4865" y="451"/>
                  </a:lnTo>
                  <a:lnTo>
                    <a:pt x="0" y="4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16320" y="4998960"/>
              <a:ext cx="623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03516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66552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28292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91328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3248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614988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78024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739944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02944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8648640" y="4998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2330280" y="5013360"/>
              <a:ext cx="2541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287352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350352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412128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75128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537048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598788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661824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723744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7867800" y="504828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8450280" y="5048280"/>
              <a:ext cx="5097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779400" y="4578480"/>
              <a:ext cx="16556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Production shift to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low-cost 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600120" y="4145040"/>
              <a:ext cx="18352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Further integration of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 products/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878040" y="3727440"/>
              <a:ext cx="15573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Rapid technology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develo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1222200" y="3348000"/>
              <a:ext cx="121284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Globalis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71680" y="2938320"/>
              <a:ext cx="186372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(Mass) customis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344520" y="2529000"/>
              <a:ext cx="209088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Shorter product lifecy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749160" y="2021040"/>
              <a:ext cx="16858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Deverticalisation of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supply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 txBox="1"/>
          <p:nvPr/>
        </p:nvSpPr>
        <p:spPr>
          <a:xfrm>
            <a:off x="741240" y="5610240"/>
            <a:ext cx="813132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Globalisation, rapid technology development, further integration of products and services and shorter product life cycles are regarded as the main business changes.</a:t>
            </a:r>
            <a:r>
              <a:rPr b="0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nies Will Then Have to Deal with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Major Issue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39680" y="1306440"/>
            <a:ext cx="8859960" cy="3675240"/>
            <a:chOff x="139680" y="1306440"/>
            <a:chExt cx="8859960" cy="3675240"/>
          </a:xfrm>
        </p:grpSpPr>
        <p:sp>
          <p:nvSpPr>
            <p:cNvPr id="287" name=""/>
            <p:cNvSpPr/>
            <p:nvPr/>
          </p:nvSpPr>
          <p:spPr>
            <a:xfrm>
              <a:off x="179280" y="1306440"/>
              <a:ext cx="8755200" cy="367524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35200" y="1486080"/>
              <a:ext cx="6951960" cy="3116520"/>
            </a:xfrm>
            <a:custGeom>
              <a:avLst/>
              <a:gdLst/>
              <a:ahLst/>
              <a:rect l="0" t="0" r="r" b="b"/>
              <a:pathLst>
                <a:path w="19311" h="8657">
                  <a:moveTo>
                    <a:pt x="0" y="0"/>
                  </a:moveTo>
                  <a:lnTo>
                    <a:pt x="19311" y="0"/>
                  </a:lnTo>
                  <a:lnTo>
                    <a:pt x="19311" y="8657"/>
                  </a:lnTo>
                  <a:lnTo>
                    <a:pt x="0" y="86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216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3056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1492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1332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1028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0868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0564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9144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8840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8680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35200" y="1486080"/>
              <a:ext cx="6951960" cy="3116520"/>
            </a:xfrm>
            <a:custGeom>
              <a:avLst/>
              <a:gdLst/>
              <a:ahLst/>
              <a:rect l="0" t="0" r="r" b="b"/>
              <a:pathLst>
                <a:path fill="none" w="19311" h="8657">
                  <a:moveTo>
                    <a:pt x="0" y="0"/>
                  </a:moveTo>
                  <a:lnTo>
                    <a:pt x="19311" y="0"/>
                  </a:lnTo>
                  <a:lnTo>
                    <a:pt x="19311" y="8657"/>
                  </a:lnTo>
                  <a:lnTo>
                    <a:pt x="0" y="865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35200" y="4295880"/>
              <a:ext cx="3891240" cy="171720"/>
            </a:xfrm>
            <a:custGeom>
              <a:avLst/>
              <a:gdLst/>
              <a:ahLst/>
              <a:rect l="0" t="0" r="r" b="b"/>
              <a:pathLst>
                <a:path w="10809" h="477">
                  <a:moveTo>
                    <a:pt x="0" y="0"/>
                  </a:moveTo>
                  <a:lnTo>
                    <a:pt x="10809" y="0"/>
                  </a:lnTo>
                  <a:lnTo>
                    <a:pt x="10809" y="477"/>
                  </a:lnTo>
                  <a:lnTo>
                    <a:pt x="0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35200" y="3843360"/>
              <a:ext cx="4173840" cy="184680"/>
            </a:xfrm>
            <a:custGeom>
              <a:avLst/>
              <a:gdLst/>
              <a:ahLst/>
              <a:rect l="0" t="0" r="r" b="b"/>
              <a:pathLst>
                <a:path w="11594" h="513">
                  <a:moveTo>
                    <a:pt x="0" y="0"/>
                  </a:moveTo>
                  <a:lnTo>
                    <a:pt x="11594" y="0"/>
                  </a:lnTo>
                  <a:lnTo>
                    <a:pt x="11594" y="513"/>
                  </a:lnTo>
                  <a:lnTo>
                    <a:pt x="0" y="5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35200" y="3403440"/>
              <a:ext cx="5286600" cy="171720"/>
            </a:xfrm>
            <a:custGeom>
              <a:avLst/>
              <a:gdLst/>
              <a:ahLst/>
              <a:rect l="0" t="0" r="r" b="b"/>
              <a:pathLst>
                <a:path w="14685" h="477">
                  <a:moveTo>
                    <a:pt x="0" y="0"/>
                  </a:moveTo>
                  <a:lnTo>
                    <a:pt x="14685" y="0"/>
                  </a:lnTo>
                  <a:lnTo>
                    <a:pt x="14685" y="477"/>
                  </a:lnTo>
                  <a:lnTo>
                    <a:pt x="0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35200" y="2952720"/>
              <a:ext cx="5556600" cy="182880"/>
            </a:xfrm>
            <a:custGeom>
              <a:avLst/>
              <a:gdLst/>
              <a:ahLst/>
              <a:rect l="0" t="0" r="r" b="b"/>
              <a:pathLst>
                <a:path w="15435" h="508">
                  <a:moveTo>
                    <a:pt x="0" y="0"/>
                  </a:moveTo>
                  <a:lnTo>
                    <a:pt x="15435" y="0"/>
                  </a:lnTo>
                  <a:lnTo>
                    <a:pt x="15435" y="508"/>
                  </a:lnTo>
                  <a:lnTo>
                    <a:pt x="0" y="5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35200" y="2513160"/>
              <a:ext cx="3059640" cy="170280"/>
            </a:xfrm>
            <a:custGeom>
              <a:avLst/>
              <a:gdLst/>
              <a:ahLst/>
              <a:rect l="0" t="0" r="r" b="b"/>
              <a:pathLst>
                <a:path w="8499" h="473">
                  <a:moveTo>
                    <a:pt x="0" y="0"/>
                  </a:moveTo>
                  <a:lnTo>
                    <a:pt x="8499" y="0"/>
                  </a:lnTo>
                  <a:lnTo>
                    <a:pt x="8499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35200" y="2060640"/>
              <a:ext cx="3610440" cy="182880"/>
            </a:xfrm>
            <a:custGeom>
              <a:avLst/>
              <a:gdLst/>
              <a:ahLst/>
              <a:rect l="0" t="0" r="r" b="b"/>
              <a:pathLst>
                <a:path w="10029" h="508">
                  <a:moveTo>
                    <a:pt x="0" y="0"/>
                  </a:moveTo>
                  <a:lnTo>
                    <a:pt x="10029" y="0"/>
                  </a:lnTo>
                  <a:lnTo>
                    <a:pt x="10029" y="508"/>
                  </a:lnTo>
                  <a:lnTo>
                    <a:pt x="0" y="5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35200" y="1620720"/>
              <a:ext cx="1946520" cy="170280"/>
            </a:xfrm>
            <a:custGeom>
              <a:avLst/>
              <a:gdLst/>
              <a:ahLst/>
              <a:rect l="0" t="0" r="r" b="b"/>
              <a:pathLst>
                <a:path w="5407" h="473">
                  <a:moveTo>
                    <a:pt x="0" y="0"/>
                  </a:moveTo>
                  <a:lnTo>
                    <a:pt x="5407" y="0"/>
                  </a:lnTo>
                  <a:lnTo>
                    <a:pt x="5407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35200" y="4602240"/>
              <a:ext cx="695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43216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13056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81492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51332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521028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90868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60564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29144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98840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8686800" y="46022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27280" y="158760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1619280" y="4638600"/>
              <a:ext cx="26208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224172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293832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362412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432288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501984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571644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641520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710100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7797960" y="4629240"/>
              <a:ext cx="3398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8458200" y="4629240"/>
              <a:ext cx="541440" cy="23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23880" y="4184640"/>
              <a:ext cx="11034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Costs/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Produ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988920" y="3789360"/>
              <a:ext cx="73836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Qu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722160" y="3349800"/>
              <a:ext cx="100476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Innov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654120" y="2897280"/>
              <a:ext cx="10731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Alliances/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Network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811080" y="2457360"/>
              <a:ext cx="91584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Flexib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39680" y="1906560"/>
              <a:ext cx="15876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Time to market /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 Responsivenes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584280" y="1565280"/>
              <a:ext cx="114300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Outsourc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 txBox="1"/>
          <p:nvPr/>
        </p:nvSpPr>
        <p:spPr>
          <a:xfrm>
            <a:off x="646200" y="5172120"/>
            <a:ext cx="81313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In line with the expected key changes and issues, more effective management of knowledge is required in the near future (84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Only 4% of respondents regard current level of managing knowledge appropriate.</a:t>
            </a:r>
            <a:r>
              <a:rPr b="0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95520" y="1924200"/>
            <a:ext cx="6313320" cy="4000680"/>
          </a:xfrm>
          <a:prstGeom prst="rect">
            <a:avLst/>
          </a:prstGeom>
          <a:solidFill>
            <a:srgbClr val="feffab"/>
          </a:solidFill>
          <a:ln w="12600">
            <a:solidFill>
              <a:srgbClr val="6666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92400" y="3395520"/>
            <a:ext cx="6862680" cy="533520"/>
          </a:xfrm>
          <a:prstGeom prst="rect">
            <a:avLst/>
          </a:prstGeom>
          <a:solidFill>
            <a:srgbClr val="d1d1ff"/>
          </a:solidFill>
          <a:ln w="12600">
            <a:solidFill>
              <a:srgbClr val="6666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827360" y="2367000"/>
            <a:ext cx="5951520" cy="328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0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Executive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1. 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Introduction of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2.</a:t>
            </a: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Current status of manag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3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Towards Knowled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4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357120" y="1028880"/>
            <a:ext cx="8427960" cy="5086800"/>
            <a:chOff x="357120" y="1028880"/>
            <a:chExt cx="8427960" cy="5086800"/>
          </a:xfrm>
        </p:grpSpPr>
        <p:sp>
          <p:nvSpPr>
            <p:cNvPr id="343" name=""/>
            <p:cNvSpPr/>
            <p:nvPr/>
          </p:nvSpPr>
          <p:spPr>
            <a:xfrm>
              <a:off x="357120" y="1028880"/>
              <a:ext cx="8427960" cy="478152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412920" y="1449360"/>
              <a:ext cx="3701880" cy="466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200000"/>
                </a:lnSpc>
              </a:pPr>
              <a:r>
                <a:rPr b="1" lang="en-US" sz="14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Information transformed into knowled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00000"/>
                </a:lnSpc>
              </a:pPr>
              <a:r>
                <a:rPr b="0" lang="en-US" sz="12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New ideas are stimulat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00000"/>
                </a:lnSpc>
              </a:pPr>
              <a:r>
                <a:rPr b="1" lang="en-US" sz="14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Knowledge-creation is structured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00000"/>
                </a:lnSpc>
              </a:pPr>
              <a:r>
                <a:rPr b="0" lang="en-US" sz="12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Knowledge is available at right pla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00000"/>
                </a:lnSpc>
              </a:pPr>
              <a:r>
                <a:rPr b="0" lang="en-US" sz="12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Mistakes used as learning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00000"/>
                </a:lnSpc>
              </a:pPr>
              <a:r>
                <a:rPr b="0" lang="en-US" sz="12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Improvement o.b.o. experiences and best pract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Knowledge is re-used</a:t>
              </a:r>
              <a:br>
                <a:rPr sz="1400"/>
              </a:br>
              <a:r>
                <a:rPr b="0" lang="en-US" sz="14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(not re-inventing the whee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People's competencies are mapp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00000"/>
                </a:lnSpc>
              </a:pPr>
              <a:r>
                <a:rPr b="1" lang="en-US" sz="14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No overflow of 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00000"/>
                </a:lnSpc>
              </a:pPr>
              <a:r>
                <a:rPr b="1" lang="en-US" sz="14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Sufficient time to share knowled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00000"/>
                </a:lnSpc>
              </a:pPr>
              <a:r>
                <a:rPr b="0" lang="en-US" sz="12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Willingness to share knowled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08480" y="1085760"/>
              <a:ext cx="4330800" cy="457200"/>
            </a:xfrm>
            <a:prstGeom prst="rect">
              <a:avLst/>
            </a:prstGeom>
            <a:solidFill>
              <a:srgbClr val="aeaeff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a Long Way to Go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710240" y="5543640"/>
            <a:ext cx="3517560" cy="333360"/>
            <a:chOff x="4710240" y="5543640"/>
            <a:chExt cx="3517560" cy="333360"/>
          </a:xfrm>
        </p:grpSpPr>
        <p:sp>
          <p:nvSpPr>
            <p:cNvPr id="348" name=""/>
            <p:cNvSpPr txBox="1"/>
            <p:nvPr/>
          </p:nvSpPr>
          <p:spPr>
            <a:xfrm>
              <a:off x="5799240" y="5543640"/>
              <a:ext cx="276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6889680" y="5543640"/>
              <a:ext cx="276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7951680" y="5543640"/>
              <a:ext cx="276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4710240" y="5543640"/>
              <a:ext cx="276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317840" y="1603440"/>
            <a:ext cx="4343400" cy="3981240"/>
            <a:chOff x="4317840" y="1603440"/>
            <a:chExt cx="4343400" cy="3981240"/>
          </a:xfrm>
        </p:grpSpPr>
        <p:sp>
          <p:nvSpPr>
            <p:cNvPr id="353" name=""/>
            <p:cNvSpPr/>
            <p:nvPr/>
          </p:nvSpPr>
          <p:spPr>
            <a:xfrm>
              <a:off x="4317840" y="1604880"/>
              <a:ext cx="4343400" cy="3979800"/>
            </a:xfrm>
            <a:prstGeom prst="rect">
              <a:avLst/>
            </a:prstGeom>
            <a:solidFill>
              <a:srgbClr val="e3e3e3"/>
            </a:soli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61080" y="1603440"/>
              <a:ext cx="0" cy="39812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46840" y="1603440"/>
              <a:ext cx="0" cy="39812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32600" y="1603440"/>
              <a:ext cx="0" cy="39812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18360" y="1603440"/>
              <a:ext cx="0" cy="398124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17840" y="196704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17840" y="232884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17840" y="269064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17840" y="305280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17840" y="341460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17840" y="377676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17840" y="413856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840" y="450072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17840" y="486108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17840" y="5222880"/>
              <a:ext cx="4343400" cy="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03960" y="1604880"/>
              <a:ext cx="0" cy="397692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89720" y="1604880"/>
              <a:ext cx="0" cy="397692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17840" y="1676520"/>
              <a:ext cx="2263680" cy="171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33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17840" y="2038320"/>
              <a:ext cx="1882800" cy="190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33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17840" y="2400480"/>
              <a:ext cx="2263680" cy="2095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33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17840" y="3124080"/>
              <a:ext cx="2035080" cy="171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33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17840" y="3486240"/>
              <a:ext cx="1577880" cy="190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66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17840" y="3848040"/>
              <a:ext cx="2568600" cy="2095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33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17840" y="4210200"/>
              <a:ext cx="2873520" cy="2286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17840" y="4572000"/>
              <a:ext cx="2720880" cy="171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933800"/>
              <a:ext cx="2720880" cy="190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17840" y="5369040"/>
              <a:ext cx="1959120" cy="13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33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17840" y="2819520"/>
              <a:ext cx="2035080" cy="171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33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 txBox="1"/>
          <p:nvPr/>
        </p:nvSpPr>
        <p:spPr>
          <a:xfrm>
            <a:off x="666720" y="5864400"/>
            <a:ext cx="7846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Most companies acknowledge that managing knowledge can be improved for a wide range of aspects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84600" y="1201680"/>
            <a:ext cx="58104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736040" y="1201680"/>
            <a:ext cx="63828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707080" y="1096920"/>
            <a:ext cx="8175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ligh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754680" y="1096920"/>
            <a:ext cx="8175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ligh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T Infrastructure &amp; Softwar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ually Not a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95280" y="1008000"/>
            <a:ext cx="8528400" cy="4807080"/>
            <a:chOff x="395280" y="1008000"/>
            <a:chExt cx="8528400" cy="4807080"/>
          </a:xfrm>
        </p:grpSpPr>
        <p:sp>
          <p:nvSpPr>
            <p:cNvPr id="388" name=""/>
            <p:cNvSpPr txBox="1"/>
            <p:nvPr/>
          </p:nvSpPr>
          <p:spPr>
            <a:xfrm>
              <a:off x="1488960" y="1008000"/>
              <a:ext cx="7105680" cy="55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80"/>
                  </a:solidFill>
                  <a:latin typeface="Univers 45 Light"/>
                  <a:ea typeface="Univers 45 Light"/>
                </a:rPr>
                <a:t>IT infrastructure and software used to collect, share and analyse inform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9960" y="1249200"/>
              <a:ext cx="8496360" cy="44434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33680" y="1353960"/>
              <a:ext cx="6104160" cy="4007160"/>
            </a:xfrm>
            <a:custGeom>
              <a:avLst/>
              <a:gdLst/>
              <a:ahLst/>
              <a:rect l="0" t="0" r="r" b="b"/>
              <a:pathLst>
                <a:path w="16956" h="11131">
                  <a:moveTo>
                    <a:pt x="0" y="0"/>
                  </a:moveTo>
                  <a:lnTo>
                    <a:pt x="16956" y="0"/>
                  </a:lnTo>
                  <a:lnTo>
                    <a:pt x="16956" y="11131"/>
                  </a:lnTo>
                  <a:lnTo>
                    <a:pt x="0" y="11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5108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5300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6896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052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8648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0244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0400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1996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2152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3748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33680" y="1353960"/>
              <a:ext cx="6104160" cy="4007160"/>
            </a:xfrm>
            <a:custGeom>
              <a:avLst/>
              <a:gdLst/>
              <a:ahLst/>
              <a:rect l="0" t="0" r="r" b="b"/>
              <a:pathLst>
                <a:path fill="none" w="16956" h="11131">
                  <a:moveTo>
                    <a:pt x="0" y="0"/>
                  </a:moveTo>
                  <a:lnTo>
                    <a:pt x="16956" y="0"/>
                  </a:lnTo>
                  <a:lnTo>
                    <a:pt x="16956" y="11131"/>
                  </a:lnTo>
                  <a:lnTo>
                    <a:pt x="0" y="1113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33680" y="5013360"/>
              <a:ext cx="1219680" cy="203400"/>
            </a:xfrm>
            <a:custGeom>
              <a:avLst/>
              <a:gdLst/>
              <a:ahLst/>
              <a:rect l="0" t="0" r="r" b="b"/>
              <a:pathLst>
                <a:path w="3388" h="565">
                  <a:moveTo>
                    <a:pt x="0" y="0"/>
                  </a:moveTo>
                  <a:lnTo>
                    <a:pt x="3388" y="0"/>
                  </a:lnTo>
                  <a:lnTo>
                    <a:pt x="3388" y="565"/>
                  </a:lnTo>
                  <a:lnTo>
                    <a:pt x="0" y="5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33680" y="4510080"/>
              <a:ext cx="1953000" cy="203400"/>
            </a:xfrm>
            <a:custGeom>
              <a:avLst/>
              <a:gdLst/>
              <a:ahLst/>
              <a:rect l="0" t="0" r="r" b="b"/>
              <a:pathLst>
                <a:path w="5425" h="565">
                  <a:moveTo>
                    <a:pt x="0" y="0"/>
                  </a:moveTo>
                  <a:lnTo>
                    <a:pt x="5425" y="0"/>
                  </a:lnTo>
                  <a:lnTo>
                    <a:pt x="5425" y="565"/>
                  </a:lnTo>
                  <a:lnTo>
                    <a:pt x="0" y="5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33680" y="4017960"/>
              <a:ext cx="484560" cy="192600"/>
            </a:xfrm>
            <a:custGeom>
              <a:avLst/>
              <a:gdLst/>
              <a:ahLst/>
              <a:rect l="0" t="0" r="r" b="b"/>
              <a:pathLst>
                <a:path w="1346" h="535">
                  <a:moveTo>
                    <a:pt x="0" y="0"/>
                  </a:moveTo>
                  <a:lnTo>
                    <a:pt x="1346" y="0"/>
                  </a:lnTo>
                  <a:lnTo>
                    <a:pt x="1346" y="535"/>
                  </a:lnTo>
                  <a:lnTo>
                    <a:pt x="0" y="5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33680" y="3513240"/>
              <a:ext cx="3669120" cy="205200"/>
            </a:xfrm>
            <a:custGeom>
              <a:avLst/>
              <a:gdLst/>
              <a:ahLst/>
              <a:rect l="0" t="0" r="r" b="b"/>
              <a:pathLst>
                <a:path w="10192" h="570">
                  <a:moveTo>
                    <a:pt x="0" y="0"/>
                  </a:moveTo>
                  <a:lnTo>
                    <a:pt x="10192" y="0"/>
                  </a:lnTo>
                  <a:lnTo>
                    <a:pt x="10192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33680" y="3009960"/>
              <a:ext cx="4402440" cy="203400"/>
            </a:xfrm>
            <a:custGeom>
              <a:avLst/>
              <a:gdLst/>
              <a:ahLst/>
              <a:rect l="0" t="0" r="r" b="b"/>
              <a:pathLst>
                <a:path w="12229" h="565">
                  <a:moveTo>
                    <a:pt x="0" y="0"/>
                  </a:moveTo>
                  <a:lnTo>
                    <a:pt x="12229" y="0"/>
                  </a:lnTo>
                  <a:lnTo>
                    <a:pt x="12229" y="565"/>
                  </a:lnTo>
                  <a:lnTo>
                    <a:pt x="0" y="5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33680" y="2506680"/>
              <a:ext cx="1219680" cy="203400"/>
            </a:xfrm>
            <a:custGeom>
              <a:avLst/>
              <a:gdLst/>
              <a:ahLst/>
              <a:rect l="0" t="0" r="r" b="b"/>
              <a:pathLst>
                <a:path w="3388" h="565">
                  <a:moveTo>
                    <a:pt x="0" y="0"/>
                  </a:moveTo>
                  <a:lnTo>
                    <a:pt x="3388" y="0"/>
                  </a:lnTo>
                  <a:lnTo>
                    <a:pt x="3388" y="565"/>
                  </a:lnTo>
                  <a:lnTo>
                    <a:pt x="0" y="5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33680" y="2014560"/>
              <a:ext cx="4402440" cy="192600"/>
            </a:xfrm>
            <a:custGeom>
              <a:avLst/>
              <a:gdLst/>
              <a:ahLst/>
              <a:rect l="0" t="0" r="r" b="b"/>
              <a:pathLst>
                <a:path w="12229" h="535">
                  <a:moveTo>
                    <a:pt x="0" y="0"/>
                  </a:moveTo>
                  <a:lnTo>
                    <a:pt x="12229" y="0"/>
                  </a:lnTo>
                  <a:lnTo>
                    <a:pt x="12229" y="535"/>
                  </a:lnTo>
                  <a:lnTo>
                    <a:pt x="0" y="5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33680" y="1509840"/>
              <a:ext cx="5636160" cy="205200"/>
            </a:xfrm>
            <a:custGeom>
              <a:avLst/>
              <a:gdLst/>
              <a:ahLst/>
              <a:rect l="0" t="0" r="r" b="b"/>
              <a:pathLst>
                <a:path w="15656" h="570">
                  <a:moveTo>
                    <a:pt x="0" y="0"/>
                  </a:moveTo>
                  <a:lnTo>
                    <a:pt x="15656" y="0"/>
                  </a:lnTo>
                  <a:lnTo>
                    <a:pt x="15656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33680" y="5361120"/>
              <a:ext cx="6103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53368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15108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75300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36896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497052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58648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20244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680400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41996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802152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8637480" y="53611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3680" y="135396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2373480" y="5392800"/>
              <a:ext cx="2541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294480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354636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16232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476424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538020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599760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659916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721512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7816680" y="539280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8413920" y="5418000"/>
              <a:ext cx="5097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812880" y="4876920"/>
              <a:ext cx="168588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Expert/Decis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support soft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1897200" y="4452840"/>
              <a:ext cx="60156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ER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654120" y="3948120"/>
              <a:ext cx="184464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Workflow soft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1339920" y="3452760"/>
              <a:ext cx="118908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Group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395280" y="2857680"/>
              <a:ext cx="210348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Database/Document</a:t>
              </a:r>
              <a:br>
                <a:rPr sz="1600"/>
              </a:b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Management Sys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1557360" y="2443320"/>
              <a:ext cx="94140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Extra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1625760" y="1947960"/>
              <a:ext cx="87300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Intra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1625760" y="1433520"/>
              <a:ext cx="87300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  <a:ea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11920" y="557064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 txBox="1"/>
          <p:nvPr/>
        </p:nvSpPr>
        <p:spPr>
          <a:xfrm>
            <a:off x="468360" y="5818320"/>
            <a:ext cx="8323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4760" indent="-37476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Internet, intranet, databases and groupware is used by more than 50% of the respondents, but, workflow software is rarely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 Should Pay Attention to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on and the Human F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76800" y="2095560"/>
            <a:ext cx="110808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364000" y="2095560"/>
            <a:ext cx="110664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8320" y="2095560"/>
            <a:ext cx="11700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97800" y="2095560"/>
            <a:ext cx="110664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09480" y="1676520"/>
            <a:ext cx="7543800" cy="3886200"/>
            <a:chOff x="609480" y="1676520"/>
            <a:chExt cx="7543800" cy="3886200"/>
          </a:xfrm>
        </p:grpSpPr>
        <p:sp>
          <p:nvSpPr>
            <p:cNvPr id="450" name=""/>
            <p:cNvSpPr/>
            <p:nvPr/>
          </p:nvSpPr>
          <p:spPr>
            <a:xfrm>
              <a:off x="609480" y="1676520"/>
              <a:ext cx="7543800" cy="388620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92640" y="2462040"/>
              <a:ext cx="4365720" cy="2695680"/>
            </a:xfrm>
            <a:prstGeom prst="rect">
              <a:avLst/>
            </a:prstGeom>
            <a:solidFill>
              <a:srgbClr val="e3e3e3"/>
            </a:solidFill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14600" y="1828800"/>
              <a:ext cx="4343400" cy="463680"/>
            </a:xfrm>
            <a:prstGeom prst="rect">
              <a:avLst/>
            </a:prstGeom>
            <a:solidFill>
              <a:srgbClr val="e3e3e3"/>
            </a:solidFill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830160" y="2360520"/>
              <a:ext cx="2495520" cy="30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210000"/>
                </a:lnSpc>
              </a:pPr>
              <a:r>
                <a:rPr b="1" lang="en-US" sz="1400" spc="-1" strike="noStrike">
                  <a:solidFill>
                    <a:srgbClr val="000080"/>
                  </a:solidFill>
                  <a:latin typeface="Univers 45 Light"/>
                  <a:ea typeface="Univers 45 Light"/>
                </a:rPr>
                <a:t>Vision / Strate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</a:pPr>
              <a:r>
                <a:rPr b="0" lang="en-US" sz="1400" spc="-1" strike="noStrike">
                  <a:solidFill>
                    <a:srgbClr val="000080"/>
                  </a:solidFill>
                  <a:latin typeface="Univers 45 Light"/>
                  <a:ea typeface="Univers 45 Light"/>
                </a:rPr>
                <a:t>Organisational 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</a:pPr>
              <a:r>
                <a:rPr b="0" lang="en-US" sz="1400" spc="-1" strike="noStrike">
                  <a:solidFill>
                    <a:srgbClr val="000080"/>
                  </a:solidFill>
                  <a:latin typeface="Univers 45 Light"/>
                  <a:ea typeface="Univers 45 Light"/>
                </a:rPr>
                <a:t>IT syst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</a:pPr>
              <a:r>
                <a:rPr b="1" lang="en-US" sz="1400" spc="-1" strike="noStrike">
                  <a:solidFill>
                    <a:srgbClr val="000080"/>
                  </a:solidFill>
                  <a:latin typeface="Univers 45 Light"/>
                  <a:ea typeface="Univers 45 Light"/>
                </a:rPr>
                <a:t>Personnel (profile, attitud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</a:pPr>
              <a:r>
                <a:rPr b="1" lang="en-US" sz="1400" spc="-1" strike="noStrike">
                  <a:solidFill>
                    <a:srgbClr val="000080"/>
                  </a:solidFill>
                  <a:latin typeface="Univers 45 Light"/>
                  <a:ea typeface="Univers 45 Light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</a:pPr>
              <a:r>
                <a:rPr b="0" lang="en-US" sz="1400" spc="-1" strike="noStrike">
                  <a:solidFill>
                    <a:srgbClr val="000080"/>
                  </a:solidFill>
                  <a:latin typeface="Univers 45 Light"/>
                  <a:ea typeface="Univers 45 Light"/>
                </a:rPr>
                <a:t>Management sty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3422520" y="1866960"/>
              <a:ext cx="150192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969696"/>
                  </a:solidFill>
                  <a:latin typeface="Times New Roman"/>
                  <a:ea typeface="Times New Roman"/>
                </a:rPr>
                <a:t>Not import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6132600" y="1866960"/>
              <a:ext cx="160344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Very import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4925880" y="5245200"/>
              <a:ext cx="25704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6006960" y="5245200"/>
              <a:ext cx="25704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7097760" y="5246640"/>
              <a:ext cx="25704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3843360" y="5245200"/>
              <a:ext cx="25704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14600" y="2990880"/>
              <a:ext cx="23763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14600" y="3448080"/>
              <a:ext cx="273204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14600" y="3905280"/>
              <a:ext cx="316404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14600" y="4362480"/>
              <a:ext cx="332892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14600" y="4819680"/>
              <a:ext cx="290988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414600" y="2552760"/>
              <a:ext cx="355752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57480" y="2460600"/>
              <a:ext cx="0" cy="2720880"/>
            </a:xfrm>
            <a:prstGeom prst="line">
              <a:avLst/>
            </a:prstGeom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43600" y="2460600"/>
              <a:ext cx="0" cy="2720880"/>
            </a:xfrm>
            <a:prstGeom prst="line">
              <a:avLst/>
            </a:prstGeom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29360" y="2460600"/>
              <a:ext cx="0" cy="2720880"/>
            </a:xfrm>
            <a:prstGeom prst="line">
              <a:avLst/>
            </a:prstGeom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15120" y="2460600"/>
              <a:ext cx="0" cy="2720880"/>
            </a:xfrm>
            <a:prstGeom prst="line">
              <a:avLst/>
            </a:prstGeom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4600" y="333864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14600" y="385272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14600" y="427212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14600" y="471024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00720" y="2462040"/>
              <a:ext cx="0" cy="2718000"/>
            </a:xfrm>
            <a:prstGeom prst="line">
              <a:avLst/>
            </a:prstGeom>
            <a:ln w="12600">
              <a:solidFill>
                <a:srgbClr val="969696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86480" y="2462040"/>
              <a:ext cx="0" cy="2718000"/>
            </a:xfrm>
            <a:prstGeom prst="line">
              <a:avLst/>
            </a:prstGeom>
            <a:ln w="12600">
              <a:solidFill>
                <a:srgbClr val="00008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72240" y="2462040"/>
              <a:ext cx="0" cy="2718000"/>
            </a:xfrm>
            <a:prstGeom prst="line">
              <a:avLst/>
            </a:prstGeom>
            <a:ln w="12600">
              <a:solidFill>
                <a:srgbClr val="00008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14600" y="290052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 txBox="1"/>
          <p:nvPr/>
        </p:nvSpPr>
        <p:spPr>
          <a:xfrm>
            <a:off x="419040" y="570708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Knowledge management must be vision-based and respect soft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595520" y="1943280"/>
            <a:ext cx="6313320" cy="4000680"/>
          </a:xfrm>
          <a:prstGeom prst="rect">
            <a:avLst/>
          </a:prstGeom>
          <a:solidFill>
            <a:srgbClr val="feffab"/>
          </a:solidFill>
          <a:ln w="12600">
            <a:solidFill>
              <a:srgbClr val="6666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292400" y="4081320"/>
            <a:ext cx="6862680" cy="533520"/>
          </a:xfrm>
          <a:prstGeom prst="rect">
            <a:avLst/>
          </a:prstGeom>
          <a:solidFill>
            <a:srgbClr val="d1d1ff"/>
          </a:solidFill>
          <a:ln w="12600">
            <a:solidFill>
              <a:srgbClr val="6666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27360" y="2386080"/>
            <a:ext cx="5951520" cy="328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0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Executive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1. 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Introduction of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2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Current status of managing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3.</a:t>
            </a: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Towards Knowled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4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% of Respondents Have a KM Initiativ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re Preparing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6280" y="1306440"/>
            <a:ext cx="8172360" cy="4541760"/>
          </a:xfrm>
          <a:prstGeom prst="rect">
            <a:avLst/>
          </a:prstGeom>
          <a:solidFill>
            <a:srgbClr val="feffa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139760" y="1957320"/>
            <a:ext cx="3481920" cy="3473640"/>
            <a:chOff x="1139760" y="1957320"/>
            <a:chExt cx="3481920" cy="3473640"/>
          </a:xfrm>
        </p:grpSpPr>
        <p:sp>
          <p:nvSpPr>
            <p:cNvPr id="486" name=""/>
            <p:cNvSpPr/>
            <p:nvPr/>
          </p:nvSpPr>
          <p:spPr>
            <a:xfrm>
              <a:off x="2865960" y="1959120"/>
              <a:ext cx="1755720" cy="2849400"/>
            </a:xfrm>
            <a:custGeom>
              <a:avLst/>
              <a:gdLst/>
              <a:ahLst/>
              <a:rect l="0" t="0" r="r" b="b"/>
              <a:pathLst>
                <a:path w="4877" h="7915">
                  <a:moveTo>
                    <a:pt x="47" y="4820"/>
                  </a:moveTo>
                  <a:lnTo>
                    <a:pt x="3750" y="7915"/>
                  </a:lnTo>
                  <a:lnTo>
                    <a:pt x="3750" y="7915"/>
                  </a:lnTo>
                  <a:cubicBezTo>
                    <a:pt x="3929" y="7701"/>
                    <a:pt x="4090" y="7472"/>
                    <a:pt x="4230" y="7230"/>
                  </a:cubicBezTo>
                  <a:cubicBezTo>
                    <a:pt x="4654" y="6497"/>
                    <a:pt x="4877" y="5666"/>
                    <a:pt x="4877" y="4820"/>
                  </a:cubicBezTo>
                  <a:cubicBezTo>
                    <a:pt x="4877" y="3974"/>
                    <a:pt x="4654" y="3143"/>
                    <a:pt x="4230" y="2410"/>
                  </a:cubicBezTo>
                  <a:cubicBezTo>
                    <a:pt x="3806" y="1677"/>
                    <a:pt x="3196" y="1069"/>
                    <a:pt x="2462" y="646"/>
                  </a:cubicBezTo>
                  <a:cubicBezTo>
                    <a:pt x="1728" y="222"/>
                    <a:pt x="895" y="0"/>
                    <a:pt x="48" y="0"/>
                  </a:cubicBezTo>
                  <a:cubicBezTo>
                    <a:pt x="32" y="0"/>
                    <a:pt x="16" y="0"/>
                    <a:pt x="0" y="0"/>
                  </a:cubicBezTo>
                  <a:lnTo>
                    <a:pt x="47" y="482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93480" y="3695760"/>
              <a:ext cx="2946600" cy="1735200"/>
            </a:xfrm>
            <a:custGeom>
              <a:avLst/>
              <a:gdLst/>
              <a:ahLst/>
              <a:rect l="0" t="0" r="r" b="b"/>
              <a:pathLst>
                <a:path w="8185" h="4820">
                  <a:moveTo>
                    <a:pt x="4416" y="0"/>
                  </a:moveTo>
                  <a:lnTo>
                    <a:pt x="0" y="1961"/>
                  </a:lnTo>
                  <a:lnTo>
                    <a:pt x="0" y="1961"/>
                  </a:lnTo>
                  <a:cubicBezTo>
                    <a:pt x="69" y="2114"/>
                    <a:pt x="145" y="2264"/>
                    <a:pt x="229" y="2410"/>
                  </a:cubicBezTo>
                  <a:cubicBezTo>
                    <a:pt x="654" y="3143"/>
                    <a:pt x="1264" y="3751"/>
                    <a:pt x="1999" y="4175"/>
                  </a:cubicBezTo>
                  <a:cubicBezTo>
                    <a:pt x="2734" y="4598"/>
                    <a:pt x="3567" y="4820"/>
                    <a:pt x="4416" y="4820"/>
                  </a:cubicBezTo>
                  <a:cubicBezTo>
                    <a:pt x="5264" y="4820"/>
                    <a:pt x="6098" y="4598"/>
                    <a:pt x="6832" y="4175"/>
                  </a:cubicBezTo>
                  <a:cubicBezTo>
                    <a:pt x="7351" y="3876"/>
                    <a:pt x="7810" y="3483"/>
                    <a:pt x="8185" y="3017"/>
                  </a:cubicBezTo>
                  <a:lnTo>
                    <a:pt x="4416" y="0"/>
                  </a:lnTo>
                  <a:close/>
                </a:path>
              </a:pathLst>
            </a:custGeom>
            <a:solidFill>
              <a:srgbClr val="eeaf3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39760" y="1957320"/>
              <a:ext cx="1740960" cy="2443320"/>
            </a:xfrm>
            <a:custGeom>
              <a:avLst/>
              <a:gdLst/>
              <a:ahLst/>
              <a:rect l="0" t="0" r="r" b="b"/>
              <a:pathLst>
                <a:path w="4836" h="6787">
                  <a:moveTo>
                    <a:pt x="4836" y="4825"/>
                  </a:moveTo>
                  <a:lnTo>
                    <a:pt x="4788" y="0"/>
                  </a:lnTo>
                  <a:lnTo>
                    <a:pt x="4788" y="0"/>
                  </a:lnTo>
                  <a:cubicBezTo>
                    <a:pt x="3955" y="8"/>
                    <a:pt x="3139" y="231"/>
                    <a:pt x="2418" y="646"/>
                  </a:cubicBezTo>
                  <a:cubicBezTo>
                    <a:pt x="1683" y="1070"/>
                    <a:pt x="1072" y="1679"/>
                    <a:pt x="648" y="2412"/>
                  </a:cubicBezTo>
                  <a:cubicBezTo>
                    <a:pt x="223" y="3146"/>
                    <a:pt x="0" y="3978"/>
                    <a:pt x="0" y="4824"/>
                  </a:cubicBezTo>
                  <a:cubicBezTo>
                    <a:pt x="0" y="5501"/>
                    <a:pt x="142" y="6169"/>
                    <a:pt x="418" y="6787"/>
                  </a:cubicBezTo>
                  <a:lnTo>
                    <a:pt x="4836" y="4825"/>
                  </a:lnTo>
                  <a:close/>
                </a:path>
              </a:pathLst>
            </a:custGeom>
            <a:solidFill>
              <a:srgbClr val="30c2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3281400" y="2863800"/>
              <a:ext cx="933480" cy="47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2352600" y="4433760"/>
              <a:ext cx="933480" cy="47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1589040" y="2863800"/>
              <a:ext cx="933480" cy="47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 txBox="1"/>
          <p:nvPr/>
        </p:nvSpPr>
        <p:spPr>
          <a:xfrm>
            <a:off x="5532480" y="3035160"/>
            <a:ext cx="280836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e62a05"/>
              </a:buClr>
              <a:buSzPct val="120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ither in pl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 prep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eeaf36"/>
              </a:buClr>
              <a:buSzPct val="120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paring/Investig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30c200"/>
              </a:buClr>
              <a:buSzPct val="120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PMG Consulting</a:t>
            </a:r>
            <a:br>
              <a:rPr sz="3600"/>
            </a:b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nowledge Management Survey 1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36680" y="1598760"/>
            <a:ext cx="827244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85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For further details, 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5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5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2760" y="2076480"/>
            <a:ext cx="3943440" cy="2762280"/>
          </a:xfrm>
          <a:prstGeom prst="rect">
            <a:avLst/>
          </a:prstGeom>
          <a:solidFill>
            <a:srgbClr val="feffab"/>
          </a:solidFill>
          <a:ln w="25560">
            <a:solidFill>
              <a:srgbClr val="3365fb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666880" y="2541600"/>
            <a:ext cx="3430440" cy="24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Frans van de Ven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vandeven.frans@kpmg.nl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KPMG Innovation &amp; Strategy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Telephone: +31 40 2502361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Facsimile: +31 40 25023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Companies Launch KM and at What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96800" y="1173240"/>
            <a:ext cx="4380480" cy="3897000"/>
            <a:chOff x="496800" y="1173240"/>
            <a:chExt cx="4380480" cy="3897000"/>
          </a:xfrm>
        </p:grpSpPr>
        <p:sp>
          <p:nvSpPr>
            <p:cNvPr id="495" name=""/>
            <p:cNvSpPr/>
            <p:nvPr/>
          </p:nvSpPr>
          <p:spPr>
            <a:xfrm>
              <a:off x="903240" y="1173240"/>
              <a:ext cx="3974040" cy="3502440"/>
            </a:xfrm>
            <a:custGeom>
              <a:avLst/>
              <a:gdLst/>
              <a:ahLst/>
              <a:rect l="0" t="0" r="r" b="b"/>
              <a:pathLst>
                <a:path fill="none" w="11039" h="9729">
                  <a:moveTo>
                    <a:pt x="0" y="0"/>
                  </a:moveTo>
                  <a:lnTo>
                    <a:pt x="0" y="9729"/>
                  </a:lnTo>
                  <a:lnTo>
                    <a:pt x="11039" y="9729"/>
                  </a:lnTo>
                </a:path>
              </a:pathLst>
            </a:custGeom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933480" y="4770360"/>
              <a:ext cx="371304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  <a:tabLst>
                  <a:tab algn="ctr" pos="476280"/>
                  <a:tab algn="ctr" pos="1714680"/>
                  <a:tab algn="ctr" pos="2952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-1998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39680" y="3935520"/>
              <a:ext cx="965160" cy="73980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89480" y="3589200"/>
              <a:ext cx="965160" cy="10857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73400" y="2274840"/>
              <a:ext cx="965160" cy="24004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496800" y="1447920"/>
              <a:ext cx="534960" cy="339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403960" y="1179360"/>
            <a:ext cx="2899440" cy="4016520"/>
            <a:chOff x="5403960" y="1179360"/>
            <a:chExt cx="2899440" cy="4016520"/>
          </a:xfrm>
        </p:grpSpPr>
        <p:sp>
          <p:nvSpPr>
            <p:cNvPr id="502" name=""/>
            <p:cNvSpPr/>
            <p:nvPr/>
          </p:nvSpPr>
          <p:spPr>
            <a:xfrm>
              <a:off x="6853320" y="2495520"/>
              <a:ext cx="1448280" cy="1301760"/>
            </a:xfrm>
            <a:custGeom>
              <a:avLst/>
              <a:gdLst/>
              <a:ahLst/>
              <a:rect l="0" t="0" r="r" b="b"/>
              <a:pathLst>
                <a:path w="4023" h="3616">
                  <a:moveTo>
                    <a:pt x="0" y="363"/>
                  </a:moveTo>
                  <a:lnTo>
                    <a:pt x="2364" y="3616"/>
                  </a:lnTo>
                  <a:lnTo>
                    <a:pt x="2364" y="3616"/>
                  </a:lnTo>
                  <a:cubicBezTo>
                    <a:pt x="2821" y="3285"/>
                    <a:pt x="3202" y="2861"/>
                    <a:pt x="3484" y="2373"/>
                  </a:cubicBezTo>
                  <a:cubicBezTo>
                    <a:pt x="3838" y="1762"/>
                    <a:pt x="4023" y="1069"/>
                    <a:pt x="4023" y="363"/>
                  </a:cubicBezTo>
                  <a:cubicBezTo>
                    <a:pt x="4023" y="242"/>
                    <a:pt x="4018" y="121"/>
                    <a:pt x="4007" y="0"/>
                  </a:cubicBezTo>
                  <a:lnTo>
                    <a:pt x="0" y="363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30680" y="2627280"/>
              <a:ext cx="2210400" cy="1446480"/>
            </a:xfrm>
            <a:custGeom>
              <a:avLst/>
              <a:gdLst/>
              <a:ahLst/>
              <a:rect l="0" t="0" r="r" b="b"/>
              <a:pathLst>
                <a:path w="6140" h="4018">
                  <a:moveTo>
                    <a:pt x="3676" y="0"/>
                  </a:moveTo>
                  <a:lnTo>
                    <a:pt x="0" y="1633"/>
                  </a:lnTo>
                  <a:lnTo>
                    <a:pt x="0" y="1633"/>
                  </a:lnTo>
                  <a:cubicBezTo>
                    <a:pt x="57" y="1762"/>
                    <a:pt x="121" y="1887"/>
                    <a:pt x="192" y="2009"/>
                  </a:cubicBezTo>
                  <a:cubicBezTo>
                    <a:pt x="545" y="2620"/>
                    <a:pt x="1053" y="3127"/>
                    <a:pt x="1664" y="3480"/>
                  </a:cubicBezTo>
                  <a:cubicBezTo>
                    <a:pt x="2276" y="3832"/>
                    <a:pt x="2970" y="4018"/>
                    <a:pt x="3676" y="4018"/>
                  </a:cubicBezTo>
                  <a:cubicBezTo>
                    <a:pt x="4383" y="4018"/>
                    <a:pt x="5076" y="3832"/>
                    <a:pt x="5688" y="3480"/>
                  </a:cubicBezTo>
                  <a:cubicBezTo>
                    <a:pt x="5845" y="3389"/>
                    <a:pt x="5996" y="3288"/>
                    <a:pt x="6140" y="3177"/>
                  </a:cubicBezTo>
                  <a:lnTo>
                    <a:pt x="3676" y="0"/>
                  </a:lnTo>
                  <a:close/>
                </a:path>
              </a:pathLst>
            </a:custGeom>
            <a:solidFill>
              <a:srgbClr val="eeaf3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03960" y="1179360"/>
              <a:ext cx="2899440" cy="2036160"/>
            </a:xfrm>
            <a:custGeom>
              <a:avLst/>
              <a:gdLst/>
              <a:ahLst/>
              <a:rect l="0" t="0" r="r" b="b"/>
              <a:pathLst>
                <a:path w="8054" h="5656">
                  <a:moveTo>
                    <a:pt x="4028" y="4021"/>
                  </a:moveTo>
                  <a:lnTo>
                    <a:pt x="8054" y="3973"/>
                  </a:lnTo>
                  <a:lnTo>
                    <a:pt x="8054" y="3973"/>
                  </a:lnTo>
                  <a:cubicBezTo>
                    <a:pt x="8046" y="3283"/>
                    <a:pt x="7860" y="2607"/>
                    <a:pt x="7515" y="2010"/>
                  </a:cubicBezTo>
                  <a:cubicBezTo>
                    <a:pt x="7161" y="1399"/>
                    <a:pt x="6653" y="891"/>
                    <a:pt x="6041" y="538"/>
                  </a:cubicBezTo>
                  <a:cubicBezTo>
                    <a:pt x="5429" y="186"/>
                    <a:pt x="4734" y="0"/>
                    <a:pt x="4027" y="0"/>
                  </a:cubicBezTo>
                  <a:cubicBezTo>
                    <a:pt x="3320" y="0"/>
                    <a:pt x="2626" y="186"/>
                    <a:pt x="2014" y="538"/>
                  </a:cubicBezTo>
                  <a:cubicBezTo>
                    <a:pt x="1402" y="891"/>
                    <a:pt x="893" y="1399"/>
                    <a:pt x="540" y="2010"/>
                  </a:cubicBezTo>
                  <a:cubicBezTo>
                    <a:pt x="186" y="2621"/>
                    <a:pt x="0" y="3314"/>
                    <a:pt x="0" y="4020"/>
                  </a:cubicBezTo>
                  <a:cubicBezTo>
                    <a:pt x="0" y="4583"/>
                    <a:pt x="119" y="5141"/>
                    <a:pt x="349" y="5656"/>
                  </a:cubicBezTo>
                  <a:lnTo>
                    <a:pt x="4028" y="4021"/>
                  </a:lnTo>
                  <a:close/>
                </a:path>
              </a:pathLst>
            </a:custGeom>
            <a:solidFill>
              <a:srgbClr val="30c2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7219800" y="2743200"/>
              <a:ext cx="911160" cy="46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>
              <a:off x="6210360" y="3195720"/>
              <a:ext cx="911160" cy="46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6283440" y="1687680"/>
              <a:ext cx="911160" cy="46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5950080" y="4286160"/>
              <a:ext cx="2141640" cy="90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10000"/>
                </a:lnSpc>
                <a:buClr>
                  <a:srgbClr val="66ff33"/>
                </a:buClr>
                <a:buSzPct val="120000"/>
                <a:buFont typeface="Wingdings"/>
                <a:buChar char=""/>
              </a:pPr>
              <a:r>
                <a:rPr b="0" lang="en-US" sz="16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Company lev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10000"/>
                </a:lnSpc>
                <a:buClr>
                  <a:srgbClr val="eeaf36"/>
                </a:buClr>
                <a:buSzPct val="120000"/>
                <a:buFont typeface="Wingdings"/>
                <a:buChar char=""/>
              </a:pPr>
              <a:r>
                <a:rPr b="0" lang="en-US" sz="16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Division/BU lev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10000"/>
                </a:lnSpc>
                <a:buClr>
                  <a:srgbClr val="e62a05"/>
                </a:buClr>
                <a:buSzPct val="120000"/>
                <a:buFont typeface="Wingdings"/>
                <a:buChar char=""/>
              </a:pPr>
              <a:r>
                <a:rPr b="0" lang="en-US" sz="16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Departement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 txBox="1"/>
          <p:nvPr/>
        </p:nvSpPr>
        <p:spPr>
          <a:xfrm>
            <a:off x="819000" y="5286240"/>
            <a:ext cx="81154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Companies that are already “preparing” for a launch for 2 years may lose critical commitment to implement knowledge management success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Effectiveness of initiatives at departemental level are doubt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0" y="414360"/>
            <a:ext cx="9142560" cy="8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s to Launch a KM Initiative:</a:t>
            </a:r>
            <a:br>
              <a:rPr sz="36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mprove Communication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34800" y="1459080"/>
            <a:ext cx="8580600" cy="3782880"/>
            <a:chOff x="334800" y="1459080"/>
            <a:chExt cx="8580600" cy="3782880"/>
          </a:xfrm>
        </p:grpSpPr>
        <p:sp>
          <p:nvSpPr>
            <p:cNvPr id="512" name=""/>
            <p:cNvSpPr/>
            <p:nvPr/>
          </p:nvSpPr>
          <p:spPr>
            <a:xfrm>
              <a:off x="363600" y="1459080"/>
              <a:ext cx="8551800" cy="378288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48120" y="1736640"/>
              <a:ext cx="5555160" cy="3100680"/>
            </a:xfrm>
            <a:custGeom>
              <a:avLst/>
              <a:gdLst/>
              <a:ahLst/>
              <a:rect l="0" t="0" r="r" b="b"/>
              <a:pathLst>
                <a:path w="15431" h="8613">
                  <a:moveTo>
                    <a:pt x="0" y="0"/>
                  </a:moveTo>
                  <a:lnTo>
                    <a:pt x="15431" y="0"/>
                  </a:lnTo>
                  <a:lnTo>
                    <a:pt x="15431" y="8613"/>
                  </a:lnTo>
                  <a:lnTo>
                    <a:pt x="0" y="86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184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43376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2604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3092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2464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1692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1064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60256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48120" y="1736640"/>
              <a:ext cx="5555160" cy="3100680"/>
            </a:xfrm>
            <a:custGeom>
              <a:avLst/>
              <a:gdLst/>
              <a:ahLst/>
              <a:rect l="0" t="0" r="r" b="b"/>
              <a:pathLst>
                <a:path fill="none" w="15431" h="8613">
                  <a:moveTo>
                    <a:pt x="0" y="0"/>
                  </a:moveTo>
                  <a:lnTo>
                    <a:pt x="15431" y="0"/>
                  </a:lnTo>
                  <a:lnTo>
                    <a:pt x="15431" y="8613"/>
                  </a:lnTo>
                  <a:lnTo>
                    <a:pt x="0" y="861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48120" y="4467240"/>
              <a:ext cx="908280" cy="221040"/>
            </a:xfrm>
            <a:custGeom>
              <a:avLst/>
              <a:gdLst/>
              <a:ahLst/>
              <a:rect l="0" t="0" r="r" b="b"/>
              <a:pathLst>
                <a:path w="2523" h="614">
                  <a:moveTo>
                    <a:pt x="0" y="0"/>
                  </a:moveTo>
                  <a:lnTo>
                    <a:pt x="2523" y="0"/>
                  </a:lnTo>
                  <a:lnTo>
                    <a:pt x="2523" y="614"/>
                  </a:lnTo>
                  <a:lnTo>
                    <a:pt x="0" y="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48120" y="3959280"/>
              <a:ext cx="4791600" cy="208440"/>
            </a:xfrm>
            <a:custGeom>
              <a:avLst/>
              <a:gdLst/>
              <a:ahLst/>
              <a:rect l="0" t="0" r="r" b="b"/>
              <a:pathLst>
                <a:path w="13310" h="579">
                  <a:moveTo>
                    <a:pt x="0" y="0"/>
                  </a:moveTo>
                  <a:lnTo>
                    <a:pt x="13310" y="0"/>
                  </a:lnTo>
                  <a:lnTo>
                    <a:pt x="13310" y="579"/>
                  </a:lnTo>
                  <a:lnTo>
                    <a:pt x="0" y="5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8120" y="3438360"/>
              <a:ext cx="1732320" cy="219600"/>
            </a:xfrm>
            <a:custGeom>
              <a:avLst/>
              <a:gdLst/>
              <a:ahLst/>
              <a:rect l="0" t="0" r="r" b="b"/>
              <a:pathLst>
                <a:path w="4812" h="610">
                  <a:moveTo>
                    <a:pt x="0" y="0"/>
                  </a:moveTo>
                  <a:lnTo>
                    <a:pt x="4812" y="0"/>
                  </a:lnTo>
                  <a:lnTo>
                    <a:pt x="4812" y="610"/>
                  </a:lnTo>
                  <a:lnTo>
                    <a:pt x="0" y="6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48120" y="2917800"/>
              <a:ext cx="3894480" cy="219600"/>
            </a:xfrm>
            <a:custGeom>
              <a:avLst/>
              <a:gdLst/>
              <a:ahLst/>
              <a:rect l="0" t="0" r="r" b="b"/>
              <a:pathLst>
                <a:path w="10818" h="610">
                  <a:moveTo>
                    <a:pt x="0" y="0"/>
                  </a:moveTo>
                  <a:lnTo>
                    <a:pt x="10818" y="0"/>
                  </a:lnTo>
                  <a:lnTo>
                    <a:pt x="10818" y="610"/>
                  </a:lnTo>
                  <a:lnTo>
                    <a:pt x="0" y="6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48120" y="2408400"/>
              <a:ext cx="3476880" cy="208440"/>
            </a:xfrm>
            <a:custGeom>
              <a:avLst/>
              <a:gdLst/>
              <a:ahLst/>
              <a:rect l="0" t="0" r="r" b="b"/>
              <a:pathLst>
                <a:path w="9658" h="579">
                  <a:moveTo>
                    <a:pt x="0" y="0"/>
                  </a:moveTo>
                  <a:lnTo>
                    <a:pt x="9658" y="0"/>
                  </a:lnTo>
                  <a:lnTo>
                    <a:pt x="9658" y="579"/>
                  </a:lnTo>
                  <a:lnTo>
                    <a:pt x="0" y="5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1887480"/>
              <a:ext cx="2640240" cy="221040"/>
            </a:xfrm>
            <a:custGeom>
              <a:avLst/>
              <a:gdLst/>
              <a:ahLst/>
              <a:rect l="0" t="0" r="r" b="b"/>
              <a:pathLst>
                <a:path w="7334" h="614">
                  <a:moveTo>
                    <a:pt x="0" y="0"/>
                  </a:moveTo>
                  <a:lnTo>
                    <a:pt x="7334" y="0"/>
                  </a:lnTo>
                  <a:lnTo>
                    <a:pt x="7334" y="614"/>
                  </a:lnTo>
                  <a:lnTo>
                    <a:pt x="0" y="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8120" y="4836960"/>
              <a:ext cx="5554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3741840" y="4836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4433760" y="4836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5126040" y="4836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5830920" y="4836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6524640" y="4836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216920" y="4836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910640" y="4836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8602560" y="4836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11400" y="483696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11400" y="431640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11400" y="380844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11400" y="328788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11400" y="276696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11400" y="225756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11400" y="173664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2894040" y="4862520"/>
              <a:ext cx="2541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3551400" y="486252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4245120" y="486252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4937040" y="486252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5641920" y="486252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6335640" y="486252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7027920" y="486252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>
              <a:off x="7721640" y="4862520"/>
              <a:ext cx="3254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 txBox="1"/>
            <p:nvPr/>
          </p:nvSpPr>
          <p:spPr>
            <a:xfrm>
              <a:off x="8413920" y="4862520"/>
              <a:ext cx="43812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2284560" y="4495680"/>
              <a:ext cx="76356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495360" y="3343320"/>
              <a:ext cx="25527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To improve staff attitude/morale/competenc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 txBox="1"/>
            <p:nvPr/>
          </p:nvSpPr>
          <p:spPr>
            <a:xfrm>
              <a:off x="995400" y="2824200"/>
              <a:ext cx="20527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To improve potential for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innov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334800" y="2406600"/>
              <a:ext cx="271296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To improve market perform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 txBox="1"/>
            <p:nvPr/>
          </p:nvSpPr>
          <p:spPr>
            <a:xfrm>
              <a:off x="393840" y="1876320"/>
              <a:ext cx="265428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To execute a strategic dir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>
              <a:off x="730080" y="3881520"/>
              <a:ext cx="231768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0000"/>
                </a:lnSpc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To improve commun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and decision-mak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 txBox="1"/>
          <p:nvPr/>
        </p:nvSpPr>
        <p:spPr>
          <a:xfrm>
            <a:off x="512640" y="5564160"/>
            <a:ext cx="8115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Other key motives touch upon innovation potential, market performance or a strategic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&amp;D is Still Driving Companys’ KM Initi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703440" y="1306440"/>
            <a:ext cx="7738920" cy="3749760"/>
            <a:chOff x="703440" y="1306440"/>
            <a:chExt cx="7738920" cy="3749760"/>
          </a:xfrm>
        </p:grpSpPr>
        <p:sp>
          <p:nvSpPr>
            <p:cNvPr id="563" name=""/>
            <p:cNvSpPr/>
            <p:nvPr/>
          </p:nvSpPr>
          <p:spPr>
            <a:xfrm>
              <a:off x="703440" y="1306440"/>
              <a:ext cx="7738920" cy="37450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750960" y="1459080"/>
              <a:ext cx="7642080" cy="3597120"/>
              <a:chOff x="750960" y="1459080"/>
              <a:chExt cx="7642080" cy="3597120"/>
            </a:xfrm>
          </p:grpSpPr>
          <p:sp>
            <p:nvSpPr>
              <p:cNvPr id="565" name=""/>
              <p:cNvSpPr/>
              <p:nvPr/>
            </p:nvSpPr>
            <p:spPr>
              <a:xfrm>
                <a:off x="2743200" y="1744560"/>
                <a:ext cx="5372640" cy="3040560"/>
              </a:xfrm>
              <a:custGeom>
                <a:avLst/>
                <a:gdLst/>
                <a:ahLst/>
                <a:rect l="0" t="0" r="r" b="b"/>
                <a:pathLst>
                  <a:path w="14924" h="8446">
                    <a:moveTo>
                      <a:pt x="0" y="0"/>
                    </a:moveTo>
                    <a:lnTo>
                      <a:pt x="14924" y="0"/>
                    </a:lnTo>
                    <a:lnTo>
                      <a:pt x="14924" y="8446"/>
                    </a:lnTo>
                    <a:lnTo>
                      <a:pt x="0" y="84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41784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09248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75452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916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10380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77880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44048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11548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743200" y="1744560"/>
                <a:ext cx="5372640" cy="3040560"/>
              </a:xfrm>
              <a:custGeom>
                <a:avLst/>
                <a:gdLst/>
                <a:ahLst/>
                <a:rect l="0" t="0" r="r" b="b"/>
                <a:pathLst>
                  <a:path fill="none" w="14924" h="8446">
                    <a:moveTo>
                      <a:pt x="0" y="0"/>
                    </a:moveTo>
                    <a:lnTo>
                      <a:pt x="14924" y="0"/>
                    </a:lnTo>
                    <a:lnTo>
                      <a:pt x="14924" y="8446"/>
                    </a:lnTo>
                    <a:lnTo>
                      <a:pt x="0" y="844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43200" y="4545000"/>
                <a:ext cx="400320" cy="149760"/>
              </a:xfrm>
              <a:custGeom>
                <a:avLst/>
                <a:gdLst/>
                <a:ahLst/>
                <a:rect l="0" t="0" r="r" b="b"/>
                <a:pathLst>
                  <a:path w="1112" h="416">
                    <a:moveTo>
                      <a:pt x="0" y="0"/>
                    </a:moveTo>
                    <a:lnTo>
                      <a:pt x="1112" y="0"/>
                    </a:lnTo>
                    <a:lnTo>
                      <a:pt x="1112" y="416"/>
                    </a:lnTo>
                    <a:lnTo>
                      <a:pt x="0" y="4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743200" y="4213080"/>
                <a:ext cx="1679760" cy="138600"/>
              </a:xfrm>
              <a:custGeom>
                <a:avLst/>
                <a:gdLst/>
                <a:ahLst/>
                <a:rect l="0" t="0" r="r" b="b"/>
                <a:pathLst>
                  <a:path w="4666" h="385">
                    <a:moveTo>
                      <a:pt x="0" y="0"/>
                    </a:moveTo>
                    <a:lnTo>
                      <a:pt x="4666" y="0"/>
                    </a:lnTo>
                    <a:lnTo>
                      <a:pt x="4666" y="385"/>
                    </a:lnTo>
                    <a:lnTo>
                      <a:pt x="0" y="3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743200" y="3870360"/>
                <a:ext cx="1279800" cy="149760"/>
              </a:xfrm>
              <a:custGeom>
                <a:avLst/>
                <a:gdLst/>
                <a:ahLst/>
                <a:rect l="0" t="0" r="r" b="b"/>
                <a:pathLst>
                  <a:path w="3555" h="416">
                    <a:moveTo>
                      <a:pt x="0" y="0"/>
                    </a:moveTo>
                    <a:lnTo>
                      <a:pt x="3555" y="0"/>
                    </a:lnTo>
                    <a:lnTo>
                      <a:pt x="3555" y="416"/>
                    </a:lnTo>
                    <a:lnTo>
                      <a:pt x="0" y="4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743200" y="3540240"/>
                <a:ext cx="4229280" cy="136800"/>
              </a:xfrm>
              <a:custGeom>
                <a:avLst/>
                <a:gdLst/>
                <a:ahLst/>
                <a:rect l="0" t="0" r="r" b="b"/>
                <a:pathLst>
                  <a:path w="11748" h="380">
                    <a:moveTo>
                      <a:pt x="0" y="0"/>
                    </a:moveTo>
                    <a:lnTo>
                      <a:pt x="11748" y="0"/>
                    </a:lnTo>
                    <a:lnTo>
                      <a:pt x="11748" y="380"/>
                    </a:lnTo>
                    <a:lnTo>
                      <a:pt x="0" y="3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743200" y="3195720"/>
                <a:ext cx="1679760" cy="149760"/>
              </a:xfrm>
              <a:custGeom>
                <a:avLst/>
                <a:gdLst/>
                <a:ahLst/>
                <a:rect l="0" t="0" r="r" b="b"/>
                <a:pathLst>
                  <a:path w="4666" h="416">
                    <a:moveTo>
                      <a:pt x="0" y="0"/>
                    </a:moveTo>
                    <a:lnTo>
                      <a:pt x="4666" y="0"/>
                    </a:lnTo>
                    <a:lnTo>
                      <a:pt x="4666" y="416"/>
                    </a:lnTo>
                    <a:lnTo>
                      <a:pt x="0" y="4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743200" y="2865600"/>
                <a:ext cx="1279800" cy="136800"/>
              </a:xfrm>
              <a:custGeom>
                <a:avLst/>
                <a:gdLst/>
                <a:ahLst/>
                <a:rect l="0" t="0" r="r" b="b"/>
                <a:pathLst>
                  <a:path w="3555" h="380">
                    <a:moveTo>
                      <a:pt x="0" y="0"/>
                    </a:moveTo>
                    <a:lnTo>
                      <a:pt x="3555" y="0"/>
                    </a:lnTo>
                    <a:lnTo>
                      <a:pt x="3555" y="380"/>
                    </a:lnTo>
                    <a:lnTo>
                      <a:pt x="0" y="3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743200" y="2522520"/>
                <a:ext cx="2549880" cy="147960"/>
              </a:xfrm>
              <a:custGeom>
                <a:avLst/>
                <a:gdLst/>
                <a:ahLst/>
                <a:rect l="0" t="0" r="r" b="b"/>
                <a:pathLst>
                  <a:path w="7083" h="411">
                    <a:moveTo>
                      <a:pt x="0" y="0"/>
                    </a:moveTo>
                    <a:lnTo>
                      <a:pt x="7083" y="0"/>
                    </a:lnTo>
                    <a:lnTo>
                      <a:pt x="7083" y="411"/>
                    </a:lnTo>
                    <a:lnTo>
                      <a:pt x="0" y="4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743200" y="2190600"/>
                <a:ext cx="2081520" cy="136800"/>
              </a:xfrm>
              <a:custGeom>
                <a:avLst/>
                <a:gdLst/>
                <a:ahLst/>
                <a:rect l="0" t="0" r="r" b="b"/>
                <a:pathLst>
                  <a:path w="5782" h="380">
                    <a:moveTo>
                      <a:pt x="0" y="0"/>
                    </a:moveTo>
                    <a:lnTo>
                      <a:pt x="5782" y="0"/>
                    </a:lnTo>
                    <a:lnTo>
                      <a:pt x="5782" y="380"/>
                    </a:lnTo>
                    <a:lnTo>
                      <a:pt x="0" y="3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743200" y="1847880"/>
                <a:ext cx="2961000" cy="147960"/>
              </a:xfrm>
              <a:custGeom>
                <a:avLst/>
                <a:gdLst/>
                <a:ahLst/>
                <a:rect l="0" t="0" r="r" b="b"/>
                <a:pathLst>
                  <a:path w="8225" h="411">
                    <a:moveTo>
                      <a:pt x="0" y="0"/>
                    </a:moveTo>
                    <a:lnTo>
                      <a:pt x="8225" y="0"/>
                    </a:lnTo>
                    <a:lnTo>
                      <a:pt x="8225" y="411"/>
                    </a:lnTo>
                    <a:lnTo>
                      <a:pt x="0" y="4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743200" y="4784760"/>
                <a:ext cx="537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274320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341784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409248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475452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42916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10380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677880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744048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8115480" y="47847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74320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697120" y="47847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697120" y="444168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697120" y="41115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97120" y="376884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697120" y="343692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697120" y="309420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697120" y="276228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697120" y="241920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697120" y="208764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97120" y="17445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 txBox="1"/>
              <p:nvPr/>
            </p:nvSpPr>
            <p:spPr>
              <a:xfrm>
                <a:off x="2616120" y="4834080"/>
                <a:ext cx="25416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 txBox="1"/>
              <p:nvPr/>
            </p:nvSpPr>
            <p:spPr>
              <a:xfrm>
                <a:off x="3257640" y="4834080"/>
                <a:ext cx="32544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 txBox="1"/>
              <p:nvPr/>
            </p:nvSpPr>
            <p:spPr>
              <a:xfrm>
                <a:off x="3930480" y="4834080"/>
                <a:ext cx="32544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4594320" y="4834080"/>
                <a:ext cx="32544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>
                <a:off x="5268960" y="4834080"/>
                <a:ext cx="32544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 txBox="1"/>
              <p:nvPr/>
            </p:nvSpPr>
            <p:spPr>
              <a:xfrm>
                <a:off x="5943600" y="4834080"/>
                <a:ext cx="32544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6618240" y="4834080"/>
                <a:ext cx="32544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7280280" y="4834080"/>
                <a:ext cx="32544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 txBox="1"/>
              <p:nvPr/>
            </p:nvSpPr>
            <p:spPr>
              <a:xfrm>
                <a:off x="7954920" y="4834080"/>
                <a:ext cx="43812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750960" y="1459080"/>
                <a:ext cx="2022480" cy="3288960"/>
                <a:chOff x="750960" y="1459080"/>
                <a:chExt cx="2022480" cy="3288960"/>
              </a:xfrm>
            </p:grpSpPr>
            <p:sp>
              <p:nvSpPr>
                <p:cNvPr id="615" name=""/>
                <p:cNvSpPr txBox="1"/>
                <p:nvPr/>
              </p:nvSpPr>
              <p:spPr>
                <a:xfrm>
                  <a:off x="1897200" y="4475160"/>
                  <a:ext cx="87624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Logistic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 txBox="1"/>
                <p:nvPr/>
              </p:nvSpPr>
              <p:spPr>
                <a:xfrm>
                  <a:off x="1314360" y="4133880"/>
                  <a:ext cx="145908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Sales/Market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 txBox="1"/>
                <p:nvPr/>
              </p:nvSpPr>
              <p:spPr>
                <a:xfrm>
                  <a:off x="1073160" y="3828960"/>
                  <a:ext cx="170028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Operations/Produ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 txBox="1"/>
                <p:nvPr/>
              </p:nvSpPr>
              <p:spPr>
                <a:xfrm>
                  <a:off x="2203560" y="3487680"/>
                  <a:ext cx="56988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1" lang="en-US" sz="14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R&amp;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 txBox="1"/>
                <p:nvPr/>
              </p:nvSpPr>
              <p:spPr>
                <a:xfrm>
                  <a:off x="1614600" y="3125880"/>
                  <a:ext cx="115884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IT Depart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 txBox="1"/>
                <p:nvPr/>
              </p:nvSpPr>
              <p:spPr>
                <a:xfrm>
                  <a:off x="2184480" y="2792520"/>
                  <a:ext cx="58896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HRM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 txBox="1"/>
                <p:nvPr/>
              </p:nvSpPr>
              <p:spPr>
                <a:xfrm>
                  <a:off x="750960" y="2451240"/>
                  <a:ext cx="202248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Business Unit manage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 txBox="1"/>
                <p:nvPr/>
              </p:nvSpPr>
              <p:spPr>
                <a:xfrm>
                  <a:off x="938160" y="2125800"/>
                  <a:ext cx="183528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Chief Information Offic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 txBox="1"/>
                <p:nvPr/>
              </p:nvSpPr>
              <p:spPr>
                <a:xfrm>
                  <a:off x="1679400" y="1814400"/>
                  <a:ext cx="109368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Board/CE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 txBox="1"/>
                <p:nvPr/>
              </p:nvSpPr>
              <p:spPr>
                <a:xfrm>
                  <a:off x="1290600" y="1459080"/>
                  <a:ext cx="14828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r">
                    <a:lnSpc>
                      <a:spcPct val="85000"/>
                    </a:lnSpc>
                    <a:spcBef>
                      <a:spcPts val="1199"/>
                    </a:spcBef>
                  </a:pPr>
                  <a:r>
                    <a:rPr b="1" lang="en-US" sz="1600" spc="-1" strike="noStrike">
                      <a:solidFill>
                        <a:srgbClr val="000080"/>
                      </a:solidFill>
                      <a:latin typeface="Arial"/>
                      <a:ea typeface="Arial"/>
                    </a:rPr>
                    <a:t>KM Initiators: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5" name=""/>
          <p:cNvSpPr txBox="1"/>
          <p:nvPr/>
        </p:nvSpPr>
        <p:spPr>
          <a:xfrm>
            <a:off x="646200" y="5564160"/>
            <a:ext cx="8115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In 69% of the cases, more than 1 person leads the initi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In KM initiative at company level, the board is usually invol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age of Most KM Initiatives is In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298440" y="1023840"/>
            <a:ext cx="8543880" cy="4443480"/>
            <a:chOff x="298440" y="1023840"/>
            <a:chExt cx="8543880" cy="4443480"/>
          </a:xfrm>
        </p:grpSpPr>
        <p:sp>
          <p:nvSpPr>
            <p:cNvPr id="628" name=""/>
            <p:cNvSpPr/>
            <p:nvPr/>
          </p:nvSpPr>
          <p:spPr>
            <a:xfrm>
              <a:off x="298440" y="1023840"/>
              <a:ext cx="8543880" cy="44434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94000" y="1173240"/>
              <a:ext cx="5412240" cy="3921480"/>
            </a:xfrm>
            <a:custGeom>
              <a:avLst/>
              <a:gdLst/>
              <a:ahLst/>
              <a:rect l="0" t="0" r="r" b="b"/>
              <a:pathLst>
                <a:path w="15034" h="10893">
                  <a:moveTo>
                    <a:pt x="0" y="0"/>
                  </a:moveTo>
                  <a:lnTo>
                    <a:pt x="15034" y="0"/>
                  </a:lnTo>
                  <a:lnTo>
                    <a:pt x="15034" y="10893"/>
                  </a:lnTo>
                  <a:lnTo>
                    <a:pt x="0" y="108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94000" y="1173240"/>
              <a:ext cx="5412240" cy="3921480"/>
            </a:xfrm>
            <a:custGeom>
              <a:avLst/>
              <a:gdLst/>
              <a:ahLst/>
              <a:rect l="0" t="0" r="r" b="b"/>
              <a:pathLst>
                <a:path fill="none" w="15034" h="10893">
                  <a:moveTo>
                    <a:pt x="0" y="0"/>
                  </a:moveTo>
                  <a:lnTo>
                    <a:pt x="15034" y="0"/>
                  </a:lnTo>
                  <a:lnTo>
                    <a:pt x="15034" y="10893"/>
                  </a:lnTo>
                  <a:lnTo>
                    <a:pt x="0" y="1089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94000" y="4826160"/>
              <a:ext cx="2711880" cy="159120"/>
            </a:xfrm>
            <a:custGeom>
              <a:avLst/>
              <a:gdLst/>
              <a:ahLst/>
              <a:rect l="0" t="0" r="r" b="b"/>
              <a:pathLst>
                <a:path w="7533" h="442">
                  <a:moveTo>
                    <a:pt x="0" y="0"/>
                  </a:moveTo>
                  <a:lnTo>
                    <a:pt x="7533" y="0"/>
                  </a:lnTo>
                  <a:lnTo>
                    <a:pt x="7533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94000" y="4425840"/>
              <a:ext cx="1673640" cy="170280"/>
            </a:xfrm>
            <a:custGeom>
              <a:avLst/>
              <a:gdLst/>
              <a:ahLst/>
              <a:rect l="0" t="0" r="r" b="b"/>
              <a:pathLst>
                <a:path w="4649" h="473">
                  <a:moveTo>
                    <a:pt x="0" y="0"/>
                  </a:moveTo>
                  <a:lnTo>
                    <a:pt x="4649" y="0"/>
                  </a:lnTo>
                  <a:lnTo>
                    <a:pt x="4649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394000" y="4040280"/>
              <a:ext cx="3034080" cy="157680"/>
            </a:xfrm>
            <a:custGeom>
              <a:avLst/>
              <a:gdLst/>
              <a:ahLst/>
              <a:rect l="0" t="0" r="r" b="b"/>
              <a:pathLst>
                <a:path w="8428" h="438">
                  <a:moveTo>
                    <a:pt x="0" y="0"/>
                  </a:moveTo>
                  <a:lnTo>
                    <a:pt x="8428" y="0"/>
                  </a:lnTo>
                  <a:lnTo>
                    <a:pt x="8428" y="438"/>
                  </a:lnTo>
                  <a:lnTo>
                    <a:pt x="0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394000" y="3639960"/>
              <a:ext cx="705240" cy="170280"/>
            </a:xfrm>
            <a:custGeom>
              <a:avLst/>
              <a:gdLst/>
              <a:ahLst/>
              <a:rect l="0" t="0" r="r" b="b"/>
              <a:pathLst>
                <a:path w="1959" h="473">
                  <a:moveTo>
                    <a:pt x="0" y="0"/>
                  </a:moveTo>
                  <a:lnTo>
                    <a:pt x="1959" y="0"/>
                  </a:lnTo>
                  <a:lnTo>
                    <a:pt x="1959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94000" y="3252960"/>
              <a:ext cx="3134160" cy="159120"/>
            </a:xfrm>
            <a:custGeom>
              <a:avLst/>
              <a:gdLst/>
              <a:ahLst/>
              <a:rect l="0" t="0" r="r" b="b"/>
              <a:pathLst>
                <a:path w="8706" h="442">
                  <a:moveTo>
                    <a:pt x="0" y="0"/>
                  </a:moveTo>
                  <a:lnTo>
                    <a:pt x="8706" y="0"/>
                  </a:lnTo>
                  <a:lnTo>
                    <a:pt x="8706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94000" y="2865600"/>
              <a:ext cx="2711880" cy="159120"/>
            </a:xfrm>
            <a:custGeom>
              <a:avLst/>
              <a:gdLst/>
              <a:ahLst/>
              <a:rect l="0" t="0" r="r" b="b"/>
              <a:pathLst>
                <a:path w="7533" h="442">
                  <a:moveTo>
                    <a:pt x="0" y="0"/>
                  </a:moveTo>
                  <a:lnTo>
                    <a:pt x="7533" y="0"/>
                  </a:lnTo>
                  <a:lnTo>
                    <a:pt x="7533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94000" y="2467080"/>
              <a:ext cx="1673640" cy="170280"/>
            </a:xfrm>
            <a:custGeom>
              <a:avLst/>
              <a:gdLst/>
              <a:ahLst/>
              <a:rect l="0" t="0" r="r" b="b"/>
              <a:pathLst>
                <a:path w="4649" h="473">
                  <a:moveTo>
                    <a:pt x="0" y="0"/>
                  </a:moveTo>
                  <a:lnTo>
                    <a:pt x="4649" y="0"/>
                  </a:lnTo>
                  <a:lnTo>
                    <a:pt x="4649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94000" y="2079720"/>
              <a:ext cx="2711880" cy="157680"/>
            </a:xfrm>
            <a:custGeom>
              <a:avLst/>
              <a:gdLst/>
              <a:ahLst/>
              <a:rect l="0" t="0" r="r" b="b"/>
              <a:pathLst>
                <a:path w="7533" h="438">
                  <a:moveTo>
                    <a:pt x="0" y="0"/>
                  </a:moveTo>
                  <a:lnTo>
                    <a:pt x="7533" y="0"/>
                  </a:lnTo>
                  <a:lnTo>
                    <a:pt x="7533" y="438"/>
                  </a:lnTo>
                  <a:lnTo>
                    <a:pt x="0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94000" y="1681200"/>
              <a:ext cx="2056320" cy="170280"/>
            </a:xfrm>
            <a:custGeom>
              <a:avLst/>
              <a:gdLst/>
              <a:ahLst/>
              <a:rect l="0" t="0" r="r" b="b"/>
              <a:pathLst>
                <a:path w="5712" h="473">
                  <a:moveTo>
                    <a:pt x="0" y="0"/>
                  </a:moveTo>
                  <a:lnTo>
                    <a:pt x="5712" y="0"/>
                  </a:lnTo>
                  <a:lnTo>
                    <a:pt x="5712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394000" y="1292400"/>
              <a:ext cx="4061160" cy="159120"/>
            </a:xfrm>
            <a:custGeom>
              <a:avLst/>
              <a:gdLst/>
              <a:ahLst/>
              <a:rect l="0" t="0" r="r" b="b"/>
              <a:pathLst>
                <a:path w="11281" h="442">
                  <a:moveTo>
                    <a:pt x="0" y="0"/>
                  </a:moveTo>
                  <a:lnTo>
                    <a:pt x="11281" y="0"/>
                  </a:lnTo>
                  <a:lnTo>
                    <a:pt x="11281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5520" y="4826160"/>
              <a:ext cx="1671840" cy="159120"/>
            </a:xfrm>
            <a:custGeom>
              <a:avLst/>
              <a:gdLst/>
              <a:ahLst/>
              <a:rect l="0" t="0" r="r" b="b"/>
              <a:pathLst>
                <a:path w="4644" h="442">
                  <a:moveTo>
                    <a:pt x="0" y="0"/>
                  </a:moveTo>
                  <a:lnTo>
                    <a:pt x="4644" y="0"/>
                  </a:lnTo>
                  <a:lnTo>
                    <a:pt x="4644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67280" y="4425840"/>
              <a:ext cx="3032640" cy="170280"/>
            </a:xfrm>
            <a:custGeom>
              <a:avLst/>
              <a:gdLst/>
              <a:ahLst/>
              <a:rect l="0" t="0" r="r" b="b"/>
              <a:pathLst>
                <a:path w="8424" h="473">
                  <a:moveTo>
                    <a:pt x="0" y="0"/>
                  </a:moveTo>
                  <a:lnTo>
                    <a:pt x="8424" y="0"/>
                  </a:lnTo>
                  <a:lnTo>
                    <a:pt x="8424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27720" y="4040280"/>
              <a:ext cx="1671840" cy="157680"/>
            </a:xfrm>
            <a:custGeom>
              <a:avLst/>
              <a:gdLst/>
              <a:ahLst/>
              <a:rect l="0" t="0" r="r" b="b"/>
              <a:pathLst>
                <a:path w="4644" h="438">
                  <a:moveTo>
                    <a:pt x="0" y="0"/>
                  </a:moveTo>
                  <a:lnTo>
                    <a:pt x="4644" y="0"/>
                  </a:lnTo>
                  <a:lnTo>
                    <a:pt x="4644" y="438"/>
                  </a:lnTo>
                  <a:lnTo>
                    <a:pt x="0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098880" y="3639960"/>
              <a:ext cx="3729240" cy="170280"/>
            </a:xfrm>
            <a:custGeom>
              <a:avLst/>
              <a:gdLst/>
              <a:ahLst/>
              <a:rect l="0" t="0" r="r" b="b"/>
              <a:pathLst>
                <a:path w="10359" h="473">
                  <a:moveTo>
                    <a:pt x="0" y="0"/>
                  </a:moveTo>
                  <a:lnTo>
                    <a:pt x="10359" y="0"/>
                  </a:lnTo>
                  <a:lnTo>
                    <a:pt x="10359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3252960"/>
              <a:ext cx="2065680" cy="159120"/>
            </a:xfrm>
            <a:custGeom>
              <a:avLst/>
              <a:gdLst/>
              <a:ahLst/>
              <a:rect l="0" t="0" r="r" b="b"/>
              <a:pathLst>
                <a:path w="5738" h="442">
                  <a:moveTo>
                    <a:pt x="0" y="0"/>
                  </a:moveTo>
                  <a:lnTo>
                    <a:pt x="5738" y="0"/>
                  </a:lnTo>
                  <a:lnTo>
                    <a:pt x="5738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05520" y="2865600"/>
              <a:ext cx="2054520" cy="159120"/>
            </a:xfrm>
            <a:custGeom>
              <a:avLst/>
              <a:gdLst/>
              <a:ahLst/>
              <a:rect l="0" t="0" r="r" b="b"/>
              <a:pathLst>
                <a:path w="5707" h="442">
                  <a:moveTo>
                    <a:pt x="0" y="0"/>
                  </a:moveTo>
                  <a:lnTo>
                    <a:pt x="5707" y="0"/>
                  </a:lnTo>
                  <a:lnTo>
                    <a:pt x="5707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67280" y="2467080"/>
              <a:ext cx="2710080" cy="170280"/>
            </a:xfrm>
            <a:custGeom>
              <a:avLst/>
              <a:gdLst/>
              <a:ahLst/>
              <a:rect l="0" t="0" r="r" b="b"/>
              <a:pathLst>
                <a:path w="7528" h="473">
                  <a:moveTo>
                    <a:pt x="0" y="0"/>
                  </a:moveTo>
                  <a:lnTo>
                    <a:pt x="7528" y="0"/>
                  </a:lnTo>
                  <a:lnTo>
                    <a:pt x="7528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2079720"/>
              <a:ext cx="1349640" cy="157680"/>
            </a:xfrm>
            <a:custGeom>
              <a:avLst/>
              <a:gdLst/>
              <a:ahLst/>
              <a:rect l="0" t="0" r="r" b="b"/>
              <a:pathLst>
                <a:path w="3749" h="438">
                  <a:moveTo>
                    <a:pt x="0" y="0"/>
                  </a:moveTo>
                  <a:lnTo>
                    <a:pt x="3749" y="0"/>
                  </a:lnTo>
                  <a:lnTo>
                    <a:pt x="3749" y="438"/>
                  </a:lnTo>
                  <a:lnTo>
                    <a:pt x="0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49600" y="1681200"/>
              <a:ext cx="2378520" cy="170280"/>
            </a:xfrm>
            <a:custGeom>
              <a:avLst/>
              <a:gdLst/>
              <a:ahLst/>
              <a:rect l="0" t="0" r="r" b="b"/>
              <a:pathLst>
                <a:path w="6607" h="473">
                  <a:moveTo>
                    <a:pt x="0" y="0"/>
                  </a:moveTo>
                  <a:lnTo>
                    <a:pt x="6607" y="0"/>
                  </a:lnTo>
                  <a:lnTo>
                    <a:pt x="6607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454800" y="1292400"/>
              <a:ext cx="705240" cy="159120"/>
            </a:xfrm>
            <a:custGeom>
              <a:avLst/>
              <a:gdLst/>
              <a:ahLst/>
              <a:rect l="0" t="0" r="r" b="b"/>
              <a:pathLst>
                <a:path w="1959" h="442">
                  <a:moveTo>
                    <a:pt x="0" y="0"/>
                  </a:moveTo>
                  <a:lnTo>
                    <a:pt x="1959" y="0"/>
                  </a:lnTo>
                  <a:lnTo>
                    <a:pt x="1959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2a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77000" y="4826160"/>
              <a:ext cx="1029240" cy="159120"/>
            </a:xfrm>
            <a:custGeom>
              <a:avLst/>
              <a:gdLst/>
              <a:ahLst/>
              <a:rect l="0" t="0" r="r" b="b"/>
              <a:pathLst>
                <a:path w="2859" h="442">
                  <a:moveTo>
                    <a:pt x="0" y="0"/>
                  </a:moveTo>
                  <a:lnTo>
                    <a:pt x="2859" y="0"/>
                  </a:lnTo>
                  <a:lnTo>
                    <a:pt x="2859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99200" y="4425840"/>
              <a:ext cx="706680" cy="170280"/>
            </a:xfrm>
            <a:custGeom>
              <a:avLst/>
              <a:gdLst/>
              <a:ahLst/>
              <a:rect l="0" t="0" r="r" b="b"/>
              <a:pathLst>
                <a:path w="1963" h="473">
                  <a:moveTo>
                    <a:pt x="0" y="0"/>
                  </a:moveTo>
                  <a:lnTo>
                    <a:pt x="1963" y="0"/>
                  </a:lnTo>
                  <a:lnTo>
                    <a:pt x="1963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99200" y="4040280"/>
              <a:ext cx="706680" cy="157680"/>
            </a:xfrm>
            <a:custGeom>
              <a:avLst/>
              <a:gdLst/>
              <a:ahLst/>
              <a:rect l="0" t="0" r="r" b="b"/>
              <a:pathLst>
                <a:path w="1963" h="438">
                  <a:moveTo>
                    <a:pt x="0" y="0"/>
                  </a:moveTo>
                  <a:lnTo>
                    <a:pt x="1963" y="0"/>
                  </a:lnTo>
                  <a:lnTo>
                    <a:pt x="1963" y="438"/>
                  </a:lnTo>
                  <a:lnTo>
                    <a:pt x="0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27760" y="3639960"/>
              <a:ext cx="978120" cy="170280"/>
            </a:xfrm>
            <a:custGeom>
              <a:avLst/>
              <a:gdLst/>
              <a:ahLst/>
              <a:rect l="0" t="0" r="r" b="b"/>
              <a:pathLst>
                <a:path w="2717" h="473">
                  <a:moveTo>
                    <a:pt x="0" y="0"/>
                  </a:moveTo>
                  <a:lnTo>
                    <a:pt x="2717" y="0"/>
                  </a:lnTo>
                  <a:lnTo>
                    <a:pt x="2717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93120" y="3252960"/>
              <a:ext cx="213120" cy="159120"/>
            </a:xfrm>
            <a:custGeom>
              <a:avLst/>
              <a:gdLst/>
              <a:ahLst/>
              <a:rect l="0" t="0" r="r" b="b"/>
              <a:pathLst>
                <a:path w="592" h="442">
                  <a:moveTo>
                    <a:pt x="0" y="0"/>
                  </a:moveTo>
                  <a:lnTo>
                    <a:pt x="592" y="0"/>
                  </a:lnTo>
                  <a:lnTo>
                    <a:pt x="592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159680" y="2865600"/>
              <a:ext cx="646560" cy="159120"/>
            </a:xfrm>
            <a:custGeom>
              <a:avLst/>
              <a:gdLst/>
              <a:ahLst/>
              <a:rect l="0" t="0" r="r" b="b"/>
              <a:pathLst>
                <a:path w="1796" h="442">
                  <a:moveTo>
                    <a:pt x="0" y="0"/>
                  </a:moveTo>
                  <a:lnTo>
                    <a:pt x="1796" y="0"/>
                  </a:lnTo>
                  <a:lnTo>
                    <a:pt x="1796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77000" y="2467080"/>
              <a:ext cx="1029240" cy="170280"/>
            </a:xfrm>
            <a:custGeom>
              <a:avLst/>
              <a:gdLst/>
              <a:ahLst/>
              <a:rect l="0" t="0" r="r" b="b"/>
              <a:pathLst>
                <a:path w="2859" h="473">
                  <a:moveTo>
                    <a:pt x="0" y="0"/>
                  </a:moveTo>
                  <a:lnTo>
                    <a:pt x="2859" y="0"/>
                  </a:lnTo>
                  <a:lnTo>
                    <a:pt x="2859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454800" y="2079720"/>
              <a:ext cx="1351440" cy="157680"/>
            </a:xfrm>
            <a:custGeom>
              <a:avLst/>
              <a:gdLst/>
              <a:ahLst/>
              <a:rect l="0" t="0" r="r" b="b"/>
              <a:pathLst>
                <a:path w="3754" h="438">
                  <a:moveTo>
                    <a:pt x="0" y="0"/>
                  </a:moveTo>
                  <a:lnTo>
                    <a:pt x="3754" y="0"/>
                  </a:lnTo>
                  <a:lnTo>
                    <a:pt x="3754" y="438"/>
                  </a:lnTo>
                  <a:lnTo>
                    <a:pt x="0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827760" y="1681200"/>
              <a:ext cx="978120" cy="170280"/>
            </a:xfrm>
            <a:custGeom>
              <a:avLst/>
              <a:gdLst/>
              <a:ahLst/>
              <a:rect l="0" t="0" r="r" b="b"/>
              <a:pathLst>
                <a:path w="2717" h="473">
                  <a:moveTo>
                    <a:pt x="0" y="0"/>
                  </a:moveTo>
                  <a:lnTo>
                    <a:pt x="2717" y="0"/>
                  </a:lnTo>
                  <a:lnTo>
                    <a:pt x="2717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59680" y="1292400"/>
              <a:ext cx="646560" cy="159120"/>
            </a:xfrm>
            <a:custGeom>
              <a:avLst/>
              <a:gdLst/>
              <a:ahLst/>
              <a:rect l="0" t="0" r="r" b="b"/>
              <a:pathLst>
                <a:path w="1796" h="442">
                  <a:moveTo>
                    <a:pt x="0" y="0"/>
                  </a:moveTo>
                  <a:lnTo>
                    <a:pt x="1796" y="0"/>
                  </a:lnTo>
                  <a:lnTo>
                    <a:pt x="1796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94000" y="5094360"/>
              <a:ext cx="5411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239400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93832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347184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401652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456084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509436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563868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618336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672624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26120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7805880" y="506412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94000" y="1173240"/>
              <a:ext cx="0" cy="392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54400" y="509436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354400" y="470520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354400" y="43084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54400" y="39196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54400" y="352260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54400" y="313380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54400" y="27446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54400" y="234792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54400" y="195912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54400" y="15620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54400" y="11732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2271600" y="5130720"/>
              <a:ext cx="2476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277668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330984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385452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439740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493236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547704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601992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 txBox="1"/>
            <p:nvPr/>
          </p:nvSpPr>
          <p:spPr>
            <a:xfrm>
              <a:off x="656424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>
              <a:off x="7097760" y="5130720"/>
              <a:ext cx="3430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7683480" y="5130720"/>
              <a:ext cx="247680" cy="2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430200" y="4729320"/>
              <a:ext cx="195732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Processes/jobs affected by the initiativ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406440" y="4357800"/>
              <a:ext cx="198108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Incentives changed to stimulate knowled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982800" y="4457880"/>
              <a:ext cx="18432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>
              <a:off x="703440" y="3952800"/>
              <a:ext cx="168444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Special people appointed to manage knowled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420840" y="3551400"/>
              <a:ext cx="196704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Workflow linked to knowledge datab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304920" y="3174840"/>
              <a:ext cx="208296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Formats defined for meaningful presentation of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 txBox="1"/>
            <p:nvPr/>
          </p:nvSpPr>
          <p:spPr>
            <a:xfrm>
              <a:off x="444600" y="2762280"/>
              <a:ext cx="194328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Processes defined for info gathering/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>
              <a:off x="549360" y="2365200"/>
              <a:ext cx="183816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Information needs, flows and owners are cl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1257480" y="2044800"/>
              <a:ext cx="113040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Budget 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 txBox="1"/>
            <p:nvPr/>
          </p:nvSpPr>
          <p:spPr>
            <a:xfrm>
              <a:off x="330120" y="1577880"/>
              <a:ext cx="205740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Knowledge management strategy with objectiv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406440" y="1200240"/>
              <a:ext cx="198108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Initiative embedded in</a:t>
              </a:r>
              <a:br>
                <a:rPr sz="1000"/>
              </a:b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business p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173240" y="1322280"/>
              <a:ext cx="18432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7881840" y="2751120"/>
              <a:ext cx="789120" cy="1028880"/>
              <a:chOff x="7881840" y="2751120"/>
              <a:chExt cx="789120" cy="1028880"/>
            </a:xfrm>
          </p:grpSpPr>
          <p:sp>
            <p:nvSpPr>
              <p:cNvPr id="709" name=""/>
              <p:cNvSpPr txBox="1"/>
              <p:nvPr/>
            </p:nvSpPr>
            <p:spPr>
              <a:xfrm>
                <a:off x="7881840" y="2751120"/>
                <a:ext cx="789120" cy="102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190440" indent="-190440">
                  <a:lnSpc>
                    <a:spcPct val="85000"/>
                  </a:lnSpc>
                  <a:spcBef>
                    <a:spcPts val="1199"/>
                  </a:spcBef>
                  <a:buClr>
                    <a:srgbClr val="2f2fff"/>
                  </a:buClr>
                  <a:buSzPct val="120000"/>
                  <a:buFont typeface="Wingdings"/>
                  <a:buChar char=""/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90440" indent="-190440">
                  <a:lnSpc>
                    <a:spcPct val="85000"/>
                  </a:lnSpc>
                  <a:spcBef>
                    <a:spcPts val="1199"/>
                  </a:spcBef>
                  <a:buClr>
                    <a:srgbClr val="e62a05"/>
                  </a:buClr>
                  <a:buSzPct val="120000"/>
                  <a:buFont typeface="Wingdings"/>
                  <a:buChar char=""/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90440" indent="-190440">
                  <a:lnSpc>
                    <a:spcPct val="85000"/>
                  </a:lnSpc>
                  <a:spcBef>
                    <a:spcPts val="1199"/>
                  </a:spcBef>
                  <a:buClr>
                    <a:srgbClr val="000000"/>
                  </a:buClr>
                  <a:buSzPct val="120000"/>
                  <a:buFont typeface="Wingdings"/>
                  <a:buChar char=""/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n’t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no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981920" y="3355920"/>
                <a:ext cx="141120" cy="133200"/>
              </a:xfrm>
              <a:prstGeom prst="rect">
                <a:avLst/>
              </a:prstGeom>
              <a:noFill/>
              <a:ln w="12600">
                <a:solidFill>
                  <a:srgbClr val="969696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1" name=""/>
          <p:cNvSpPr txBox="1"/>
          <p:nvPr/>
        </p:nvSpPr>
        <p:spPr>
          <a:xfrm>
            <a:off x="952560" y="5630760"/>
            <a:ext cx="782964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Initiatives often lack direction (44%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No clear understanding of info needs, flows and owners (50%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No use of stimulating incentive schemes (56%)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No link between workflow and databases (6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Main Bottlenecks for KM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270000" y="1052640"/>
            <a:ext cx="8497800" cy="4924440"/>
            <a:chOff x="270000" y="1052640"/>
            <a:chExt cx="8497800" cy="4924440"/>
          </a:xfrm>
        </p:grpSpPr>
        <p:sp>
          <p:nvSpPr>
            <p:cNvPr id="714" name=""/>
            <p:cNvSpPr/>
            <p:nvPr/>
          </p:nvSpPr>
          <p:spPr>
            <a:xfrm>
              <a:off x="385920" y="1052640"/>
              <a:ext cx="8381880" cy="489096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30520" y="1211400"/>
              <a:ext cx="5870880" cy="4405680"/>
            </a:xfrm>
            <a:custGeom>
              <a:avLst/>
              <a:gdLst/>
              <a:ahLst/>
              <a:rect l="0" t="0" r="r" b="b"/>
              <a:pathLst>
                <a:path w="16308" h="12238">
                  <a:moveTo>
                    <a:pt x="0" y="0"/>
                  </a:moveTo>
                  <a:lnTo>
                    <a:pt x="16308" y="0"/>
                  </a:lnTo>
                  <a:lnTo>
                    <a:pt x="16308" y="12238"/>
                  </a:lnTo>
                  <a:lnTo>
                    <a:pt x="0" y="122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2092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0196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9092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8168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7064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5168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4064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3104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1208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501040" y="121140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630520" y="1211400"/>
              <a:ext cx="5870880" cy="4405680"/>
            </a:xfrm>
            <a:custGeom>
              <a:avLst/>
              <a:gdLst/>
              <a:ahLst/>
              <a:rect l="0" t="0" r="r" b="b"/>
              <a:pathLst>
                <a:path fill="none" w="16308" h="12238">
                  <a:moveTo>
                    <a:pt x="0" y="0"/>
                  </a:moveTo>
                  <a:lnTo>
                    <a:pt x="16308" y="0"/>
                  </a:lnTo>
                  <a:lnTo>
                    <a:pt x="16308" y="12238"/>
                  </a:lnTo>
                  <a:lnTo>
                    <a:pt x="0" y="1223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630520" y="5335560"/>
              <a:ext cx="2227680" cy="168480"/>
            </a:xfrm>
            <a:custGeom>
              <a:avLst/>
              <a:gdLst/>
              <a:ahLst/>
              <a:rect l="0" t="0" r="r" b="b"/>
              <a:pathLst>
                <a:path w="6188" h="468">
                  <a:moveTo>
                    <a:pt x="0" y="0"/>
                  </a:moveTo>
                  <a:lnTo>
                    <a:pt x="6188" y="0"/>
                  </a:lnTo>
                  <a:lnTo>
                    <a:pt x="6188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630520" y="4941720"/>
              <a:ext cx="2580120" cy="159120"/>
            </a:xfrm>
            <a:custGeom>
              <a:avLst/>
              <a:gdLst/>
              <a:ahLst/>
              <a:rect l="0" t="0" r="r" b="b"/>
              <a:pathLst>
                <a:path w="7167" h="442">
                  <a:moveTo>
                    <a:pt x="0" y="0"/>
                  </a:moveTo>
                  <a:lnTo>
                    <a:pt x="7167" y="0"/>
                  </a:lnTo>
                  <a:lnTo>
                    <a:pt x="7167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30520" y="4538520"/>
              <a:ext cx="2940480" cy="168480"/>
            </a:xfrm>
            <a:custGeom>
              <a:avLst/>
              <a:gdLst/>
              <a:ahLst/>
              <a:rect l="0" t="0" r="r" b="b"/>
              <a:pathLst>
                <a:path w="8168" h="468">
                  <a:moveTo>
                    <a:pt x="0" y="0"/>
                  </a:moveTo>
                  <a:lnTo>
                    <a:pt x="8168" y="0"/>
                  </a:lnTo>
                  <a:lnTo>
                    <a:pt x="8168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630520" y="4135320"/>
              <a:ext cx="3292920" cy="170280"/>
            </a:xfrm>
            <a:custGeom>
              <a:avLst/>
              <a:gdLst/>
              <a:ahLst/>
              <a:rect l="0" t="0" r="r" b="b"/>
              <a:pathLst>
                <a:path w="9147" h="473">
                  <a:moveTo>
                    <a:pt x="0" y="0"/>
                  </a:moveTo>
                  <a:lnTo>
                    <a:pt x="9147" y="0"/>
                  </a:lnTo>
                  <a:lnTo>
                    <a:pt x="9147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630520" y="3732120"/>
              <a:ext cx="762480" cy="170280"/>
            </a:xfrm>
            <a:custGeom>
              <a:avLst/>
              <a:gdLst/>
              <a:ahLst/>
              <a:rect l="0" t="0" r="r" b="b"/>
              <a:pathLst>
                <a:path w="2118" h="473">
                  <a:moveTo>
                    <a:pt x="0" y="0"/>
                  </a:moveTo>
                  <a:lnTo>
                    <a:pt x="2118" y="0"/>
                  </a:lnTo>
                  <a:lnTo>
                    <a:pt x="2118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30520" y="3340080"/>
              <a:ext cx="3292920" cy="159120"/>
            </a:xfrm>
            <a:custGeom>
              <a:avLst/>
              <a:gdLst/>
              <a:ahLst/>
              <a:rect l="0" t="0" r="r" b="b"/>
              <a:pathLst>
                <a:path w="9147" h="442">
                  <a:moveTo>
                    <a:pt x="0" y="0"/>
                  </a:moveTo>
                  <a:lnTo>
                    <a:pt x="9147" y="0"/>
                  </a:lnTo>
                  <a:lnTo>
                    <a:pt x="9147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30520" y="2936880"/>
              <a:ext cx="2940480" cy="168480"/>
            </a:xfrm>
            <a:custGeom>
              <a:avLst/>
              <a:gdLst/>
              <a:ahLst/>
              <a:rect l="0" t="0" r="r" b="b"/>
              <a:pathLst>
                <a:path w="8168" h="468">
                  <a:moveTo>
                    <a:pt x="0" y="0"/>
                  </a:moveTo>
                  <a:lnTo>
                    <a:pt x="8168" y="0"/>
                  </a:lnTo>
                  <a:lnTo>
                    <a:pt x="8168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30520" y="2533680"/>
              <a:ext cx="2580120" cy="168480"/>
            </a:xfrm>
            <a:custGeom>
              <a:avLst/>
              <a:gdLst/>
              <a:ahLst/>
              <a:rect l="0" t="0" r="r" b="b"/>
              <a:pathLst>
                <a:path w="7167" h="468">
                  <a:moveTo>
                    <a:pt x="0" y="0"/>
                  </a:moveTo>
                  <a:lnTo>
                    <a:pt x="7167" y="0"/>
                  </a:lnTo>
                  <a:lnTo>
                    <a:pt x="7167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30520" y="2130480"/>
              <a:ext cx="2940480" cy="168480"/>
            </a:xfrm>
            <a:custGeom>
              <a:avLst/>
              <a:gdLst/>
              <a:ahLst/>
              <a:rect l="0" t="0" r="r" b="b"/>
              <a:pathLst>
                <a:path w="8168" h="468">
                  <a:moveTo>
                    <a:pt x="0" y="0"/>
                  </a:moveTo>
                  <a:lnTo>
                    <a:pt x="8168" y="0"/>
                  </a:lnTo>
                  <a:lnTo>
                    <a:pt x="8168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30520" y="1736640"/>
              <a:ext cx="3702240" cy="159120"/>
            </a:xfrm>
            <a:custGeom>
              <a:avLst/>
              <a:gdLst/>
              <a:ahLst/>
              <a:rect l="0" t="0" r="r" b="b"/>
              <a:pathLst>
                <a:path w="10284" h="442">
                  <a:moveTo>
                    <a:pt x="0" y="0"/>
                  </a:moveTo>
                  <a:lnTo>
                    <a:pt x="10284" y="0"/>
                  </a:lnTo>
                  <a:lnTo>
                    <a:pt x="10284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30520" y="1333440"/>
              <a:ext cx="3292920" cy="168480"/>
            </a:xfrm>
            <a:custGeom>
              <a:avLst/>
              <a:gdLst/>
              <a:ahLst/>
              <a:rect l="0" t="0" r="r" b="b"/>
              <a:pathLst>
                <a:path w="9147" h="468">
                  <a:moveTo>
                    <a:pt x="0" y="0"/>
                  </a:moveTo>
                  <a:lnTo>
                    <a:pt x="9147" y="0"/>
                  </a:lnTo>
                  <a:lnTo>
                    <a:pt x="9147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30520" y="5616720"/>
              <a:ext cx="587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2604960" y="559764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22092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380196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439092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498168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557064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615168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674064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33104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91208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8501040" y="5616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04960" y="119232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529000" y="55976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529000" y="51944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29000" y="480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529000" y="43974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29000" y="39956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529000" y="35924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529000" y="31989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529000" y="2795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529000" y="23922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29000" y="19890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529000" y="15955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29000" y="11923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 txBox="1"/>
            <p:nvPr/>
          </p:nvSpPr>
          <p:spPr>
            <a:xfrm>
              <a:off x="2313000" y="5607000"/>
              <a:ext cx="2412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307188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 txBox="1"/>
            <p:nvPr/>
          </p:nvSpPr>
          <p:spPr>
            <a:xfrm>
              <a:off x="365292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 txBox="1"/>
            <p:nvPr/>
          </p:nvSpPr>
          <p:spPr>
            <a:xfrm>
              <a:off x="424188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 txBox="1"/>
            <p:nvPr/>
          </p:nvSpPr>
          <p:spPr>
            <a:xfrm>
              <a:off x="483228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 txBox="1"/>
            <p:nvPr/>
          </p:nvSpPr>
          <p:spPr>
            <a:xfrm>
              <a:off x="542124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 txBox="1"/>
            <p:nvPr/>
          </p:nvSpPr>
          <p:spPr>
            <a:xfrm>
              <a:off x="600228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659124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 txBox="1"/>
            <p:nvPr/>
          </p:nvSpPr>
          <p:spPr>
            <a:xfrm>
              <a:off x="718200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 txBox="1"/>
            <p:nvPr/>
          </p:nvSpPr>
          <p:spPr>
            <a:xfrm>
              <a:off x="7763040" y="5651640"/>
              <a:ext cx="29700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8323200" y="5651640"/>
              <a:ext cx="3538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1405080" y="5268960"/>
              <a:ext cx="12002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Lack of IT sup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 txBox="1"/>
            <p:nvPr/>
          </p:nvSpPr>
          <p:spPr>
            <a:xfrm>
              <a:off x="831960" y="4865760"/>
              <a:ext cx="17733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Lack of KM techniques/too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395280" y="4462560"/>
              <a:ext cx="220968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Hierarchical organisational struc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509760" y="4052880"/>
              <a:ext cx="2095560" cy="40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Emphasis on short term resu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 txBox="1"/>
            <p:nvPr/>
          </p:nvSpPr>
          <p:spPr>
            <a:xfrm>
              <a:off x="1171440" y="3665520"/>
              <a:ext cx="143352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Lack of true team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587520" y="3232080"/>
              <a:ext cx="2017800" cy="40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Too little time to share 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507960" y="2808360"/>
              <a:ext cx="209700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Current culture does not encourage knowledge shar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 txBox="1"/>
            <p:nvPr/>
          </p:nvSpPr>
          <p:spPr>
            <a:xfrm>
              <a:off x="1665360" y="2467080"/>
              <a:ext cx="9399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Lack of fun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1128600" y="2011320"/>
              <a:ext cx="147636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  <a:ea typeface="Arial"/>
                </a:rPr>
                <a:t>Lack of commitment senior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657360" y="1660680"/>
              <a:ext cx="1947960" cy="24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KM is no top pri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 txBox="1"/>
            <p:nvPr/>
          </p:nvSpPr>
          <p:spPr>
            <a:xfrm>
              <a:off x="270000" y="1198440"/>
              <a:ext cx="2335320" cy="40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Lack of understanding of KM and its potential benef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8439120" y="5732640"/>
              <a:ext cx="2905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"/>
          <p:cNvSpPr txBox="1"/>
          <p:nvPr/>
        </p:nvSpPr>
        <p:spPr>
          <a:xfrm>
            <a:off x="646200" y="6076800"/>
            <a:ext cx="80596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Major road blocks are a lack of understanding, interest, patience for results and time for sharing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se Conditions Apply to Your Company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1384200" y="1281240"/>
            <a:ext cx="6407280" cy="4073400"/>
            <a:chOff x="1384200" y="1281240"/>
            <a:chExt cx="6407280" cy="4073400"/>
          </a:xfrm>
        </p:grpSpPr>
        <p:pic>
          <p:nvPicPr>
            <p:cNvPr id="789" name="" descr=""/>
            <p:cNvPicPr/>
            <p:nvPr/>
          </p:nvPicPr>
          <p:blipFill>
            <a:blip r:embed="rId1"/>
            <a:stretch/>
          </p:blipFill>
          <p:spPr>
            <a:xfrm>
              <a:off x="1384200" y="1281240"/>
              <a:ext cx="6407280" cy="40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 txBox="1"/>
            <p:nvPr/>
          </p:nvSpPr>
          <p:spPr>
            <a:xfrm>
              <a:off x="2887560" y="1589040"/>
              <a:ext cx="4440240" cy="4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100" spc="-1" strike="noStrike">
                  <a:solidFill>
                    <a:srgbClr val="000080"/>
                  </a:solidFill>
                  <a:latin typeface="Univers 45 Light"/>
                  <a:ea typeface="Univers 45 Light"/>
                </a:rPr>
                <a:t>No commitment or not a prior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 txBox="1"/>
            <p:nvPr/>
          </p:nvSpPr>
          <p:spPr>
            <a:xfrm>
              <a:off x="1920960" y="2503440"/>
              <a:ext cx="2440080" cy="4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1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Short-term focu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2351160" y="3303720"/>
              <a:ext cx="4438800" cy="4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1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Insufficient understanding of K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00600" y="4305240"/>
              <a:ext cx="2990880" cy="82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>
              <a:off x="3247920" y="3854520"/>
              <a:ext cx="4367160" cy="4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1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Overtaxed organisation/no tim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1417680" y="5200560"/>
            <a:ext cx="6964920" cy="1090800"/>
            <a:chOff x="1417680" y="5200560"/>
            <a:chExt cx="6964920" cy="1090800"/>
          </a:xfrm>
        </p:grpSpPr>
        <p:sp>
          <p:nvSpPr>
            <p:cNvPr id="796" name=""/>
            <p:cNvSpPr/>
            <p:nvPr/>
          </p:nvSpPr>
          <p:spPr>
            <a:xfrm>
              <a:off x="7804080" y="5200560"/>
              <a:ext cx="578520" cy="1090800"/>
            </a:xfrm>
            <a:custGeom>
              <a:avLst/>
              <a:gdLst/>
              <a:ahLst/>
              <a:rect l="0" t="0" r="r" b="b"/>
              <a:pathLst>
                <a:path fill="none" w="1607" h="3030">
                  <a:moveTo>
                    <a:pt x="0" y="3030"/>
                  </a:moveTo>
                  <a:lnTo>
                    <a:pt x="0" y="3030"/>
                  </a:lnTo>
                  <a:cubicBezTo>
                    <a:pt x="282" y="3030"/>
                    <a:pt x="559" y="2960"/>
                    <a:pt x="803" y="2827"/>
                  </a:cubicBezTo>
                  <a:cubicBezTo>
                    <a:pt x="1047" y="2694"/>
                    <a:pt x="1250" y="2503"/>
                    <a:pt x="1391" y="2273"/>
                  </a:cubicBezTo>
                  <a:cubicBezTo>
                    <a:pt x="1532" y="2042"/>
                    <a:pt x="1607" y="1781"/>
                    <a:pt x="1607" y="1515"/>
                  </a:cubicBezTo>
                  <a:cubicBezTo>
                    <a:pt x="1607" y="1249"/>
                    <a:pt x="1532" y="988"/>
                    <a:pt x="1391" y="757"/>
                  </a:cubicBezTo>
                  <a:cubicBezTo>
                    <a:pt x="1250" y="527"/>
                    <a:pt x="1047" y="336"/>
                    <a:pt x="803" y="203"/>
                  </a:cubicBezTo>
                  <a:cubicBezTo>
                    <a:pt x="559" y="70"/>
                    <a:pt x="282" y="0"/>
                    <a:pt x="0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417680" y="6284880"/>
              <a:ext cx="6364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"/>
          <p:cNvSpPr txBox="1"/>
          <p:nvPr/>
        </p:nvSpPr>
        <p:spPr>
          <a:xfrm>
            <a:off x="685800" y="5506920"/>
            <a:ext cx="7943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Start a KM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46200" y="1306440"/>
            <a:ext cx="6783840" cy="2694240"/>
          </a:xfrm>
          <a:custGeom>
            <a:avLst/>
            <a:gdLst/>
            <a:ahLst/>
            <a:rect l="0" t="0" r="r" b="b"/>
            <a:pathLst>
              <a:path w="18844" h="7484">
                <a:moveTo>
                  <a:pt x="0" y="0"/>
                </a:moveTo>
                <a:lnTo>
                  <a:pt x="0" y="7484"/>
                </a:lnTo>
                <a:lnTo>
                  <a:pt x="13190" y="7484"/>
                </a:lnTo>
                <a:lnTo>
                  <a:pt x="18844" y="3741"/>
                </a:lnTo>
                <a:lnTo>
                  <a:pt x="1319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30c20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46200" y="1486080"/>
            <a:ext cx="68976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1760" indent="-401760">
              <a:lnSpc>
                <a:spcPct val="8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da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f KM represents a set of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havioural/Structural Condition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199"/>
              </a:spcBef>
              <a:spcAft>
                <a:spcPts val="3841"/>
              </a:spcAft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ll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f KM represent a set of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perational Condition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oo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f KM represents the corporate knowledge by which learning, innovation, speed and productivity will be enh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7632720" y="2597040"/>
            <a:ext cx="1379880" cy="1049400"/>
            <a:chOff x="7632720" y="2597040"/>
            <a:chExt cx="1379880" cy="1049400"/>
          </a:xfrm>
        </p:grpSpPr>
        <p:sp>
          <p:nvSpPr>
            <p:cNvPr id="802" name=""/>
            <p:cNvSpPr/>
            <p:nvPr/>
          </p:nvSpPr>
          <p:spPr>
            <a:xfrm>
              <a:off x="8667720" y="2914560"/>
              <a:ext cx="1440" cy="7304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728120" y="3646440"/>
              <a:ext cx="9428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8678880" y="3314880"/>
              <a:ext cx="266760" cy="3250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943840" y="2793960"/>
              <a:ext cx="0" cy="5223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8120160" y="3316320"/>
              <a:ext cx="82548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726320" y="2917800"/>
              <a:ext cx="1800" cy="7221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728120" y="3316320"/>
              <a:ext cx="392040" cy="3189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115480" y="2914560"/>
              <a:ext cx="2880" cy="4017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229600" y="2863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632720" y="2806560"/>
              <a:ext cx="1340280" cy="113040"/>
            </a:xfrm>
            <a:custGeom>
              <a:avLst/>
              <a:gdLst/>
              <a:ahLst/>
              <a:rect l="0" t="0" r="r" b="b"/>
              <a:pathLst>
                <a:path fill="none" w="3723" h="314">
                  <a:moveTo>
                    <a:pt x="0" y="314"/>
                  </a:moveTo>
                  <a:lnTo>
                    <a:pt x="2606" y="314"/>
                  </a:lnTo>
                  <a:lnTo>
                    <a:pt x="3723" y="0"/>
                  </a:lnTo>
                  <a:lnTo>
                    <a:pt x="1117" y="0"/>
                  </a:lnTo>
                  <a:lnTo>
                    <a:pt x="0" y="314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245440" y="2959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245440" y="2959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8218440" y="2620800"/>
              <a:ext cx="235080" cy="144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201160" y="290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201160" y="290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158320" y="2598840"/>
              <a:ext cx="854280" cy="267120"/>
            </a:xfrm>
            <a:custGeom>
              <a:avLst/>
              <a:gdLst/>
              <a:ahLst/>
              <a:rect l="0" t="0" r="r" b="b"/>
              <a:pathLst>
                <a:path fill="none" w="2373" h="742">
                  <a:moveTo>
                    <a:pt x="1806" y="742"/>
                  </a:moveTo>
                  <a:lnTo>
                    <a:pt x="2373" y="546"/>
                  </a:lnTo>
                  <a:lnTo>
                    <a:pt x="797" y="0"/>
                  </a:lnTo>
                  <a:lnTo>
                    <a:pt x="0" y="117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475840" y="2597040"/>
              <a:ext cx="496800" cy="2080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632720" y="2635200"/>
              <a:ext cx="1125720" cy="278280"/>
            </a:xfrm>
            <a:custGeom>
              <a:avLst/>
              <a:gdLst/>
              <a:ahLst/>
              <a:rect l="0" t="0" r="r" b="b"/>
              <a:pathLst>
                <a:path fill="none" w="3127" h="773">
                  <a:moveTo>
                    <a:pt x="0" y="773"/>
                  </a:moveTo>
                  <a:lnTo>
                    <a:pt x="3127" y="773"/>
                  </a:lnTo>
                  <a:lnTo>
                    <a:pt x="1563" y="0"/>
                  </a:lnTo>
                  <a:lnTo>
                    <a:pt x="0" y="773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7612200" y="1306440"/>
            <a:ext cx="1495440" cy="1046160"/>
            <a:chOff x="7612200" y="1306440"/>
            <a:chExt cx="1495440" cy="1046160"/>
          </a:xfrm>
        </p:grpSpPr>
        <p:sp>
          <p:nvSpPr>
            <p:cNvPr id="821" name=""/>
            <p:cNvSpPr/>
            <p:nvPr/>
          </p:nvSpPr>
          <p:spPr>
            <a:xfrm>
              <a:off x="8744040" y="1631880"/>
              <a:ext cx="0" cy="6969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713720" y="2330280"/>
              <a:ext cx="103032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8724960" y="2011320"/>
              <a:ext cx="320760" cy="3412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9045720" y="1501920"/>
              <a:ext cx="0" cy="5094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8139240" y="2009880"/>
              <a:ext cx="90792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713720" y="1646280"/>
              <a:ext cx="0" cy="68112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715160" y="1987560"/>
              <a:ext cx="466920" cy="3366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137440" y="1644480"/>
              <a:ext cx="0" cy="3654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263080" y="156996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612200" y="1517760"/>
              <a:ext cx="1460880" cy="95760"/>
            </a:xfrm>
            <a:custGeom>
              <a:avLst/>
              <a:gdLst/>
              <a:ahLst/>
              <a:rect l="0" t="0" r="r" b="b"/>
              <a:pathLst>
                <a:path fill="none" w="4058" h="266">
                  <a:moveTo>
                    <a:pt x="0" y="266"/>
                  </a:moveTo>
                  <a:lnTo>
                    <a:pt x="2840" y="266"/>
                  </a:lnTo>
                  <a:lnTo>
                    <a:pt x="4058" y="0"/>
                  </a:lnTo>
                  <a:lnTo>
                    <a:pt x="1218" y="0"/>
                  </a:lnTo>
                  <a:lnTo>
                    <a:pt x="0" y="266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280360" y="165744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280360" y="165744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8253360" y="1332000"/>
              <a:ext cx="252360" cy="140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229600" y="1609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8804160" y="1503360"/>
              <a:ext cx="279360" cy="8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229600" y="1609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8821800" y="1501920"/>
              <a:ext cx="285840" cy="9972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600" bIns="48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534520" y="1306440"/>
              <a:ext cx="539640" cy="2080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612200" y="1341360"/>
              <a:ext cx="1230840" cy="270360"/>
            </a:xfrm>
            <a:custGeom>
              <a:avLst/>
              <a:gdLst/>
              <a:ahLst/>
              <a:rect l="0" t="0" r="r" b="b"/>
              <a:pathLst>
                <a:path fill="none" w="3419" h="751">
                  <a:moveTo>
                    <a:pt x="0" y="751"/>
                  </a:moveTo>
                  <a:lnTo>
                    <a:pt x="3419" y="751"/>
                  </a:lnTo>
                  <a:lnTo>
                    <a:pt x="1709" y="0"/>
                  </a:lnTo>
                  <a:lnTo>
                    <a:pt x="0" y="751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7413480" y="4173480"/>
            <a:ext cx="1581120" cy="1127160"/>
            <a:chOff x="7413480" y="4173480"/>
            <a:chExt cx="1581120" cy="1127160"/>
          </a:xfrm>
        </p:grpSpPr>
        <p:sp>
          <p:nvSpPr>
            <p:cNvPr id="841" name=""/>
            <p:cNvSpPr/>
            <p:nvPr/>
          </p:nvSpPr>
          <p:spPr>
            <a:xfrm>
              <a:off x="8623440" y="4532400"/>
              <a:ext cx="0" cy="7682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520040" y="5300640"/>
              <a:ext cx="110340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8632800" y="4950000"/>
              <a:ext cx="316080" cy="3492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947080" y="4384800"/>
              <a:ext cx="0" cy="5652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7980480" y="4948200"/>
              <a:ext cx="96660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520040" y="4546440"/>
              <a:ext cx="0" cy="7527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7521480" y="4950000"/>
              <a:ext cx="461880" cy="34272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980480" y="454824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109000" y="44593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129520" y="4560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129520" y="4560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8099280" y="4200480"/>
              <a:ext cx="270000" cy="158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077320" y="450360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8686800" y="4386240"/>
              <a:ext cx="301680" cy="104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077320" y="450360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8594640" y="4376880"/>
              <a:ext cx="355680" cy="160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397720" y="4173480"/>
              <a:ext cx="596880" cy="2271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13480" y="4210200"/>
              <a:ext cx="1321200" cy="378360"/>
            </a:xfrm>
            <a:custGeom>
              <a:avLst/>
              <a:gdLst/>
              <a:ahLst/>
              <a:rect l="0" t="0" r="r" b="b"/>
              <a:pathLst>
                <a:path fill="none" w="3670" h="1051">
                  <a:moveTo>
                    <a:pt x="0" y="1051"/>
                  </a:moveTo>
                  <a:lnTo>
                    <a:pt x="3670" y="1051"/>
                  </a:lnTo>
                  <a:lnTo>
                    <a:pt x="1835" y="0"/>
                  </a:lnTo>
                  <a:lnTo>
                    <a:pt x="0" y="1051"/>
                  </a:lnTo>
                </a:path>
              </a:pathLst>
            </a:custGeom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8080200" y="4176720"/>
              <a:ext cx="324000" cy="586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"/>
          <p:cNvSpPr txBox="1"/>
          <p:nvPr/>
        </p:nvSpPr>
        <p:spPr>
          <a:xfrm>
            <a:off x="-1440" y="38268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M is Like Building a House...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First the Foundation, Then th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a Non-Sharing to a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Environment through Incen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2411280" y="1697040"/>
            <a:ext cx="6626520" cy="4819680"/>
            <a:chOff x="2411280" y="1697040"/>
            <a:chExt cx="6626520" cy="4819680"/>
          </a:xfrm>
        </p:grpSpPr>
        <p:sp>
          <p:nvSpPr>
            <p:cNvPr id="863" name=""/>
            <p:cNvSpPr/>
            <p:nvPr/>
          </p:nvSpPr>
          <p:spPr>
            <a:xfrm>
              <a:off x="2508120" y="4438800"/>
              <a:ext cx="4953240" cy="997200"/>
            </a:xfrm>
            <a:custGeom>
              <a:avLst/>
              <a:gdLst/>
              <a:ahLst/>
              <a:rect l="0" t="0" r="r" b="b"/>
              <a:pathLst>
                <a:path w="13759" h="2770">
                  <a:moveTo>
                    <a:pt x="0" y="2770"/>
                  </a:moveTo>
                  <a:lnTo>
                    <a:pt x="3710" y="0"/>
                  </a:lnTo>
                  <a:lnTo>
                    <a:pt x="13759" y="0"/>
                  </a:lnTo>
                  <a:lnTo>
                    <a:pt x="10883" y="2770"/>
                  </a:lnTo>
                  <a:lnTo>
                    <a:pt x="0" y="2770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188040" y="23446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478240" y="3063960"/>
              <a:ext cx="0" cy="23637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6394320" y="4427640"/>
              <a:ext cx="1103400" cy="1008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97720" y="2604960"/>
              <a:ext cx="0" cy="18226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3835440" y="4422600"/>
              <a:ext cx="3662280" cy="5040"/>
            </a:xfrm>
            <a:prstGeom prst="line">
              <a:avLst/>
            </a:prstGeom>
            <a:ln w="25560">
              <a:solidFill>
                <a:srgbClr val="ffffff"/>
              </a:solidFill>
              <a:custDash>
                <a:ds d="100000" sp="100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560" bIns="-52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2479680" y="4460760"/>
              <a:ext cx="1343160" cy="963720"/>
            </a:xfrm>
            <a:prstGeom prst="line">
              <a:avLst/>
            </a:prstGeom>
            <a:ln w="25560">
              <a:solidFill>
                <a:srgbClr val="ffffff"/>
              </a:solidFill>
              <a:custDash>
                <a:ds d="100000" sp="100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365880" y="30639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473200" y="5446800"/>
              <a:ext cx="3891240" cy="0"/>
            </a:xfrm>
            <a:prstGeom prst="line">
              <a:avLst/>
            </a:prstGeom>
            <a:ln w="25560">
              <a:solidFill>
                <a:srgbClr val="ffffff"/>
              </a:solidFill>
              <a:custDash>
                <a:ds d="100000" sp="100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36880" y="2608200"/>
              <a:ext cx="0" cy="18543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78240" y="2543040"/>
              <a:ext cx="5065920" cy="520920"/>
            </a:xfrm>
            <a:custGeom>
              <a:avLst/>
              <a:gdLst/>
              <a:ahLst/>
              <a:rect l="0" t="0" r="r" b="b"/>
              <a:pathLst>
                <a:path fill="none" w="14072" h="1447">
                  <a:moveTo>
                    <a:pt x="0" y="1447"/>
                  </a:moveTo>
                  <a:lnTo>
                    <a:pt x="9850" y="1447"/>
                  </a:lnTo>
                  <a:lnTo>
                    <a:pt x="14072" y="0"/>
                  </a:lnTo>
                  <a:lnTo>
                    <a:pt x="4221" y="0"/>
                  </a:lnTo>
                  <a:lnTo>
                    <a:pt x="0" y="1447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4600440" y="1698480"/>
              <a:ext cx="917640" cy="1080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6507000" y="2208240"/>
              <a:ext cx="935280" cy="2570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19880" y="1697040"/>
              <a:ext cx="1917720" cy="5097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478240" y="1798560"/>
              <a:ext cx="4078800" cy="684720"/>
            </a:xfrm>
            <a:custGeom>
              <a:avLst/>
              <a:gdLst/>
              <a:ahLst/>
              <a:rect l="0" t="0" r="r" b="b"/>
              <a:pathLst>
                <a:path fill="none" w="11330" h="1902">
                  <a:moveTo>
                    <a:pt x="0" y="1902"/>
                  </a:moveTo>
                  <a:lnTo>
                    <a:pt x="11330" y="1902"/>
                  </a:lnTo>
                  <a:lnTo>
                    <a:pt x="5665" y="0"/>
                  </a:lnTo>
                  <a:lnTo>
                    <a:pt x="0" y="1902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7613640" y="3765600"/>
              <a:ext cx="1424160" cy="990720"/>
              <a:chOff x="7613640" y="3765600"/>
              <a:chExt cx="1424160" cy="990720"/>
            </a:xfrm>
          </p:grpSpPr>
          <p:sp>
            <p:nvSpPr>
              <p:cNvPr id="879" name=""/>
              <p:cNvSpPr/>
              <p:nvPr/>
            </p:nvSpPr>
            <p:spPr>
              <a:xfrm>
                <a:off x="7635960" y="3765600"/>
                <a:ext cx="130824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8dc"/>
                  </a:gs>
                  <a:gs pos="100000">
                    <a:srgbClr val="bf8f8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414141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 txBox="1"/>
              <p:nvPr/>
            </p:nvSpPr>
            <p:spPr>
              <a:xfrm>
                <a:off x="7613640" y="3798720"/>
                <a:ext cx="1424160" cy="90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pen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hari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ul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 txBox="1"/>
            <p:nvPr/>
          </p:nvSpPr>
          <p:spPr>
            <a:xfrm>
              <a:off x="6445080" y="4889520"/>
              <a:ext cx="1749600" cy="51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KNOWLEDGE SHA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6119640" y="5575320"/>
              <a:ext cx="1346400" cy="941400"/>
              <a:chOff x="6119640" y="5575320"/>
              <a:chExt cx="1346400" cy="941400"/>
            </a:xfrm>
          </p:grpSpPr>
          <p:sp>
            <p:nvSpPr>
              <p:cNvPr id="883" name=""/>
              <p:cNvSpPr/>
              <p:nvPr/>
            </p:nvSpPr>
            <p:spPr>
              <a:xfrm>
                <a:off x="6119640" y="5624640"/>
                <a:ext cx="1308240" cy="892080"/>
              </a:xfrm>
              <a:prstGeom prst="ellipse">
                <a:avLst/>
              </a:prstGeom>
              <a:gradFill rotWithShape="0">
                <a:gsLst>
                  <a:gs pos="0">
                    <a:srgbClr val="fff8dc"/>
                  </a:gs>
                  <a:gs pos="100000">
                    <a:srgbClr val="bf8f8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414141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 txBox="1"/>
              <p:nvPr/>
            </p:nvSpPr>
            <p:spPr>
              <a:xfrm>
                <a:off x="6170760" y="5575320"/>
                <a:ext cx="1295280" cy="90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n-sharing cul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 txBox="1"/>
            <p:nvPr/>
          </p:nvSpPr>
          <p:spPr>
            <a:xfrm>
              <a:off x="2411280" y="4681440"/>
              <a:ext cx="132876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AM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 txBox="1"/>
            <p:nvPr/>
          </p:nvSpPr>
          <p:spPr>
            <a:xfrm>
              <a:off x="4228920" y="4151160"/>
              <a:ext cx="200196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MI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 txBox="1"/>
            <p:nvPr/>
          </p:nvSpPr>
          <p:spPr>
            <a:xfrm>
              <a:off x="2720880" y="5500800"/>
              <a:ext cx="294156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GANISATION STRUCTURE &amp;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 txBox="1"/>
          <p:nvPr/>
        </p:nvSpPr>
        <p:spPr>
          <a:xfrm>
            <a:off x="209520" y="1306440"/>
            <a:ext cx="2533680" cy="1725480"/>
          </a:xfrm>
          <a:prstGeom prst="rect">
            <a:avLst/>
          </a:prstGeom>
          <a:gradFill rotWithShape="0">
            <a:gsLst>
              <a:gs pos="0">
                <a:srgbClr val="8080ff"/>
              </a:gs>
              <a:gs pos="100000">
                <a:srgbClr val="114ffb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erformance met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cience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chnology exchange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tra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Aft>
                <a:spcPts val="114001"/>
              </a:spcAf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Non-Integrated Information Systems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tegrated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1917720" y="2160720"/>
            <a:ext cx="7072200" cy="3751560"/>
            <a:chOff x="1917720" y="2160720"/>
            <a:chExt cx="7072200" cy="3751560"/>
          </a:xfrm>
        </p:grpSpPr>
        <p:sp>
          <p:nvSpPr>
            <p:cNvPr id="891" name=""/>
            <p:cNvSpPr/>
            <p:nvPr/>
          </p:nvSpPr>
          <p:spPr>
            <a:xfrm>
              <a:off x="7242120" y="4324320"/>
              <a:ext cx="1647720" cy="1079640"/>
            </a:xfrm>
            <a:prstGeom prst="ellipse">
              <a:avLst/>
            </a:prstGeom>
            <a:gradFill rotWithShape="0">
              <a:gsLst>
                <a:gs pos="0">
                  <a:srgbClr val="fff8dc"/>
                </a:gs>
                <a:gs pos="100000">
                  <a:srgbClr val="bf8f8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1414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830920" y="2808360"/>
              <a:ext cx="23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22400" y="3527280"/>
              <a:ext cx="0" cy="2363760"/>
            </a:xfrm>
            <a:prstGeom prst="line">
              <a:avLst/>
            </a:prstGeom>
            <a:ln w="38160">
              <a:solidFill>
                <a:srgbClr val="ffffff"/>
              </a:solidFill>
              <a:custDash>
                <a:ds d="100000" sp="100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5829480" y="4890960"/>
              <a:ext cx="1112760" cy="10065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42240" y="3068640"/>
              <a:ext cx="0" cy="18223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281400" y="4886280"/>
              <a:ext cx="3660840" cy="46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922400" y="4924440"/>
              <a:ext cx="1344600" cy="96372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810400" y="3527280"/>
              <a:ext cx="0" cy="2381400"/>
            </a:xfrm>
            <a:prstGeom prst="line">
              <a:avLst/>
            </a:prstGeom>
            <a:ln w="38160">
              <a:solidFill>
                <a:srgbClr val="ffffff"/>
              </a:solidFill>
              <a:custDash>
                <a:ds d="100000" sp="100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920960" y="5910120"/>
              <a:ext cx="38894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82840" y="3071880"/>
              <a:ext cx="0" cy="1854000"/>
            </a:xfrm>
            <a:prstGeom prst="line">
              <a:avLst/>
            </a:prstGeom>
            <a:ln w="38160">
              <a:solidFill>
                <a:srgbClr val="ffffff"/>
              </a:solidFill>
              <a:custDash>
                <a:ds d="100000" sp="100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922400" y="3006720"/>
              <a:ext cx="5031000" cy="520920"/>
            </a:xfrm>
            <a:custGeom>
              <a:avLst/>
              <a:gdLst/>
              <a:ahLst/>
              <a:rect l="0" t="0" r="r" b="b"/>
              <a:pathLst>
                <a:path fill="none" w="13975" h="1447">
                  <a:moveTo>
                    <a:pt x="0" y="1447"/>
                  </a:moveTo>
                  <a:lnTo>
                    <a:pt x="9783" y="1447"/>
                  </a:lnTo>
                  <a:lnTo>
                    <a:pt x="13975" y="0"/>
                  </a:lnTo>
                  <a:lnTo>
                    <a:pt x="4192" y="0"/>
                  </a:lnTo>
                  <a:lnTo>
                    <a:pt x="0" y="1447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4044960" y="2162160"/>
              <a:ext cx="917640" cy="1080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5951520" y="2671920"/>
              <a:ext cx="934920" cy="2570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964040" y="2160720"/>
              <a:ext cx="1917720" cy="5094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22400" y="2262240"/>
              <a:ext cx="4078800" cy="684720"/>
            </a:xfrm>
            <a:custGeom>
              <a:avLst/>
              <a:gdLst/>
              <a:ahLst/>
              <a:rect l="0" t="0" r="r" b="b"/>
              <a:pathLst>
                <a:path fill="none" w="11330" h="1902">
                  <a:moveTo>
                    <a:pt x="0" y="1902"/>
                  </a:moveTo>
                  <a:lnTo>
                    <a:pt x="11330" y="1902"/>
                  </a:lnTo>
                  <a:lnTo>
                    <a:pt x="5665" y="0"/>
                  </a:lnTo>
                  <a:lnTo>
                    <a:pt x="0" y="1902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7186680" y="4443480"/>
              <a:ext cx="1724040" cy="90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parate inform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3719520" y="4135320"/>
              <a:ext cx="208584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EARCH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7039080" y="3768840"/>
              <a:ext cx="1724040" cy="51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ABL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OLOG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3240000" y="3525840"/>
              <a:ext cx="167940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GRAD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F EXISTING KNOWLED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1941480" y="4270320"/>
              <a:ext cx="137016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F NEW IDE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23040" y="2495520"/>
              <a:ext cx="1647720" cy="1079640"/>
            </a:xfrm>
            <a:prstGeom prst="ellipse">
              <a:avLst/>
            </a:prstGeom>
            <a:gradFill rotWithShape="0">
              <a:gsLst>
                <a:gs pos="0">
                  <a:srgbClr val="fff8dc"/>
                </a:gs>
                <a:gs pos="100000">
                  <a:srgbClr val="bf8f8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1414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7194600" y="2625840"/>
              <a:ext cx="1795320" cy="90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grated Inform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17720" y="4915080"/>
              <a:ext cx="4953240" cy="997200"/>
            </a:xfrm>
            <a:custGeom>
              <a:avLst/>
              <a:gdLst/>
              <a:ahLst/>
              <a:rect l="0" t="0" r="r" b="b"/>
              <a:pathLst>
                <a:path w="13759" h="2770">
                  <a:moveTo>
                    <a:pt x="0" y="2770"/>
                  </a:moveTo>
                  <a:lnTo>
                    <a:pt x="3710" y="0"/>
                  </a:lnTo>
                  <a:lnTo>
                    <a:pt x="13759" y="0"/>
                  </a:lnTo>
                  <a:lnTo>
                    <a:pt x="10883" y="2770"/>
                  </a:lnTo>
                  <a:lnTo>
                    <a:pt x="0" y="2770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"/>
          <p:cNvSpPr txBox="1"/>
          <p:nvPr/>
        </p:nvSpPr>
        <p:spPr>
          <a:xfrm>
            <a:off x="209520" y="1306440"/>
            <a:ext cx="2533680" cy="1969920"/>
          </a:xfrm>
          <a:prstGeom prst="rect">
            <a:avLst/>
          </a:prstGeom>
          <a:gradFill rotWithShape="0">
            <a:gsLst>
              <a:gs pos="0">
                <a:srgbClr val="8080ff"/>
              </a:gs>
              <a:gs pos="100000">
                <a:srgbClr val="114ffb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414141"/>
            </a:outerShdw>
          </a:effectLst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atabase 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roup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eb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ser-interface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ra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0" y="376200"/>
            <a:ext cx="914256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re on KM Behavioura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tructural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5699160" y="1469880"/>
            <a:ext cx="2803320" cy="1673280"/>
            <a:chOff x="5699160" y="1469880"/>
            <a:chExt cx="2803320" cy="1673280"/>
          </a:xfrm>
        </p:grpSpPr>
        <p:sp>
          <p:nvSpPr>
            <p:cNvPr id="917" name=""/>
            <p:cNvSpPr txBox="1"/>
            <p:nvPr/>
          </p:nvSpPr>
          <p:spPr>
            <a:xfrm>
              <a:off x="5867280" y="2438280"/>
              <a:ext cx="2463840" cy="70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buClr>
                  <a:srgbClr val="e62a05"/>
                </a:buClr>
                <a:buSzPct val="120000"/>
                <a:buFont typeface="Wingdings"/>
                <a:buChar char=""/>
              </a:pPr>
              <a:r>
                <a:rPr b="0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Preparing initi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0c200"/>
                </a:buClr>
                <a:buSzPct val="120000"/>
                <a:buFont typeface="Wingdings"/>
                <a:buChar char=""/>
              </a:pPr>
              <a:r>
                <a:rPr b="0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Initiative in pl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5699160" y="1469880"/>
              <a:ext cx="2803320" cy="1103400"/>
              <a:chOff x="5699160" y="1469880"/>
              <a:chExt cx="2803320" cy="1103400"/>
            </a:xfrm>
          </p:grpSpPr>
          <p:sp>
            <p:nvSpPr>
              <p:cNvPr id="919" name=""/>
              <p:cNvSpPr/>
              <p:nvPr/>
            </p:nvSpPr>
            <p:spPr>
              <a:xfrm>
                <a:off x="6012000" y="2171880"/>
                <a:ext cx="180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 txBox="1"/>
              <p:nvPr/>
            </p:nvSpPr>
            <p:spPr>
              <a:xfrm>
                <a:off x="5699160" y="1469880"/>
                <a:ext cx="141444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not in place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 txBox="1"/>
              <p:nvPr/>
            </p:nvSpPr>
            <p:spPr>
              <a:xfrm>
                <a:off x="6294600" y="1627200"/>
                <a:ext cx="103032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starting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 txBox="1"/>
              <p:nvPr/>
            </p:nvSpPr>
            <p:spPr>
              <a:xfrm>
                <a:off x="6896160" y="1549440"/>
                <a:ext cx="122400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advanced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 txBox="1"/>
              <p:nvPr/>
            </p:nvSpPr>
            <p:spPr>
              <a:xfrm>
                <a:off x="7446960" y="1612800"/>
                <a:ext cx="105552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realised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012000" y="2171880"/>
                <a:ext cx="130320" cy="128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527880" y="2171880"/>
                <a:ext cx="128520" cy="128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172280" y="2171880"/>
                <a:ext cx="128520" cy="128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686720" y="2171880"/>
                <a:ext cx="130320" cy="128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 txBox="1"/>
              <p:nvPr/>
            </p:nvSpPr>
            <p:spPr>
              <a:xfrm>
                <a:off x="5727600" y="2158920"/>
                <a:ext cx="43164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1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 txBox="1"/>
              <p:nvPr/>
            </p:nvSpPr>
            <p:spPr>
              <a:xfrm>
                <a:off x="6243480" y="2158920"/>
                <a:ext cx="43164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2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 txBox="1"/>
              <p:nvPr/>
            </p:nvSpPr>
            <p:spPr>
              <a:xfrm>
                <a:off x="6886440" y="2158920"/>
                <a:ext cx="55080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3 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 txBox="1"/>
              <p:nvPr/>
            </p:nvSpPr>
            <p:spPr>
              <a:xfrm>
                <a:off x="7404120" y="2158920"/>
                <a:ext cx="43164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4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2" name=""/>
          <p:cNvGrpSpPr/>
          <p:nvPr/>
        </p:nvGrpSpPr>
        <p:grpSpPr>
          <a:xfrm>
            <a:off x="782640" y="3260880"/>
            <a:ext cx="7562880" cy="2446200"/>
            <a:chOff x="782640" y="3260880"/>
            <a:chExt cx="7562880" cy="2446200"/>
          </a:xfrm>
        </p:grpSpPr>
        <p:sp>
          <p:nvSpPr>
            <p:cNvPr id="933" name=""/>
            <p:cNvSpPr txBox="1"/>
            <p:nvPr/>
          </p:nvSpPr>
          <p:spPr>
            <a:xfrm>
              <a:off x="2055960" y="5176800"/>
              <a:ext cx="155592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Hierarchic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organ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 txBox="1"/>
            <p:nvPr/>
          </p:nvSpPr>
          <p:spPr>
            <a:xfrm>
              <a:off x="4621320" y="5172120"/>
              <a:ext cx="337968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Process-oriented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organ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2023920" y="4017960"/>
              <a:ext cx="1074960" cy="10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100320" y="4017960"/>
              <a:ext cx="330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 txBox="1"/>
            <p:nvPr/>
          </p:nvSpPr>
          <p:spPr>
            <a:xfrm>
              <a:off x="5500800" y="4809960"/>
              <a:ext cx="1708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Power cul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 txBox="1"/>
            <p:nvPr/>
          </p:nvSpPr>
          <p:spPr>
            <a:xfrm>
              <a:off x="6396120" y="4013280"/>
              <a:ext cx="194940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Open &amp; sha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cul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 txBox="1"/>
            <p:nvPr/>
          </p:nvSpPr>
          <p:spPr>
            <a:xfrm>
              <a:off x="782640" y="4451400"/>
              <a:ext cx="1251000" cy="74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Focus 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individ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su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 txBox="1"/>
            <p:nvPr/>
          </p:nvSpPr>
          <p:spPr>
            <a:xfrm>
              <a:off x="1709640" y="3517920"/>
              <a:ext cx="1225440" cy="74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Focus 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grou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su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 txBox="1"/>
            <p:nvPr/>
          </p:nvSpPr>
          <p:spPr>
            <a:xfrm>
              <a:off x="3176640" y="3260880"/>
              <a:ext cx="1771560" cy="74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understan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of 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 txBox="1"/>
            <p:nvPr/>
          </p:nvSpPr>
          <p:spPr>
            <a:xfrm>
              <a:off x="5424480" y="3479760"/>
              <a:ext cx="217800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Top manag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commitmen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 txBox="1"/>
            <p:nvPr/>
          </p:nvSpPr>
          <p:spPr>
            <a:xfrm>
              <a:off x="3576600" y="5156280"/>
              <a:ext cx="466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2,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28960" y="4019400"/>
              <a:ext cx="4359600" cy="1053000"/>
            </a:xfrm>
            <a:custGeom>
              <a:avLst/>
              <a:gdLst/>
              <a:ahLst/>
              <a:rect l="0" t="0" r="r" b="b"/>
              <a:pathLst>
                <a:path w="12110" h="2925">
                  <a:moveTo>
                    <a:pt x="0" y="2925"/>
                  </a:moveTo>
                  <a:lnTo>
                    <a:pt x="8477" y="2925"/>
                  </a:lnTo>
                  <a:lnTo>
                    <a:pt x="12110" y="0"/>
                  </a:lnTo>
                  <a:lnTo>
                    <a:pt x="3632" y="0"/>
                  </a:lnTo>
                  <a:lnTo>
                    <a:pt x="0" y="2925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2452680" y="4527720"/>
              <a:ext cx="466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2,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011320" y="5062680"/>
              <a:ext cx="1752480" cy="0"/>
            </a:xfrm>
            <a:prstGeom prst="line">
              <a:avLst/>
            </a:prstGeom>
            <a:ln w="38160">
              <a:solidFill>
                <a:srgbClr val="e62a0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5364000" y="4529160"/>
              <a:ext cx="533520" cy="533520"/>
            </a:xfrm>
            <a:prstGeom prst="line">
              <a:avLst/>
            </a:prstGeom>
            <a:ln w="38160">
              <a:solidFill>
                <a:srgbClr val="e62a0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078000" y="3995640"/>
              <a:ext cx="1143000" cy="0"/>
            </a:xfrm>
            <a:prstGeom prst="line">
              <a:avLst/>
            </a:prstGeom>
            <a:ln w="38160">
              <a:solidFill>
                <a:srgbClr val="e62a0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2011320" y="4529160"/>
              <a:ext cx="533520" cy="533520"/>
            </a:xfrm>
            <a:prstGeom prst="line">
              <a:avLst/>
            </a:prstGeom>
            <a:ln w="38160">
              <a:solidFill>
                <a:srgbClr val="e62a0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5883120" y="4425840"/>
              <a:ext cx="109800" cy="117720"/>
            </a:xfrm>
            <a:prstGeom prst="line">
              <a:avLst/>
            </a:prstGeom>
            <a:ln w="38160">
              <a:solidFill>
                <a:srgbClr val="30c2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53640" bIns="53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2529000" y="4352760"/>
              <a:ext cx="230040" cy="198720"/>
            </a:xfrm>
            <a:prstGeom prst="line">
              <a:avLst/>
            </a:prstGeom>
            <a:ln w="38160">
              <a:solidFill>
                <a:srgbClr val="30c2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722760" y="5056200"/>
              <a:ext cx="216000" cy="0"/>
            </a:xfrm>
            <a:prstGeom prst="line">
              <a:avLst/>
            </a:prstGeom>
            <a:ln w="38160">
              <a:solidFill>
                <a:srgbClr val="30c2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221000" y="4024440"/>
              <a:ext cx="990720" cy="0"/>
            </a:xfrm>
            <a:prstGeom prst="line">
              <a:avLst/>
            </a:prstGeom>
            <a:ln w="38160">
              <a:solidFill>
                <a:srgbClr val="30c2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 txBox="1"/>
            <p:nvPr/>
          </p:nvSpPr>
          <p:spPr>
            <a:xfrm>
              <a:off x="5881680" y="4527720"/>
              <a:ext cx="466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2,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 txBox="1"/>
            <p:nvPr/>
          </p:nvSpPr>
          <p:spPr>
            <a:xfrm>
              <a:off x="3976560" y="3994200"/>
              <a:ext cx="466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1,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 txBox="1"/>
          <p:nvPr/>
        </p:nvSpPr>
        <p:spPr>
          <a:xfrm>
            <a:off x="906480" y="6005520"/>
            <a:ext cx="8273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On the behavioural/structural axis, there is still enough improvement potent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cutive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36680" y="950760"/>
            <a:ext cx="8272440" cy="60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1760" indent="-401760">
              <a:lnSpc>
                <a:spcPct val="8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Globalisation, rapid technology development, further integration of products and services and shorter PLC’s are key changes that will take place in the future. Networking and innovation are regarded as key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As a result, more effective management of knowledge is required (84% of respondents agre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However, in most compani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Employees’ compentencies are insufficiently m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Employees’ receive an overflow of information and have insufficient time to share knowled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Knowledge is often not re-used resulting in re-invention of the wh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Knowledge creation is hardly a structure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It is not common practice to transform information into knowledge by systematically sorting it out, compilling it and summaris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444600" y="5754600"/>
            <a:ext cx="88329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re on KM Operational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6369120" y="2308320"/>
            <a:ext cx="2803320" cy="1673280"/>
            <a:chOff x="6369120" y="2308320"/>
            <a:chExt cx="2803320" cy="1673280"/>
          </a:xfrm>
        </p:grpSpPr>
        <p:sp>
          <p:nvSpPr>
            <p:cNvPr id="960" name=""/>
            <p:cNvSpPr txBox="1"/>
            <p:nvPr/>
          </p:nvSpPr>
          <p:spPr>
            <a:xfrm>
              <a:off x="6537240" y="3276720"/>
              <a:ext cx="2463840" cy="70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buClr>
                  <a:srgbClr val="e62a05"/>
                </a:buClr>
                <a:buSzPct val="120000"/>
                <a:buFont typeface="Wingdings"/>
                <a:buChar char=""/>
              </a:pPr>
              <a:r>
                <a:rPr b="0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Preparing initi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0c200"/>
                </a:buClr>
                <a:buSzPct val="120000"/>
                <a:buFont typeface="Wingdings"/>
                <a:buChar char=""/>
              </a:pPr>
              <a:r>
                <a:rPr b="0" lang="en-US" sz="1800" spc="-1" strike="noStrike">
                  <a:solidFill>
                    <a:srgbClr val="000000"/>
                  </a:solidFill>
                  <a:latin typeface="Univers 45 Light"/>
                  <a:ea typeface="Univers 45 Light"/>
                </a:rPr>
                <a:t>Initiative in pl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6369120" y="2308320"/>
              <a:ext cx="2803320" cy="1103400"/>
              <a:chOff x="6369120" y="2308320"/>
              <a:chExt cx="2803320" cy="1103400"/>
            </a:xfrm>
          </p:grpSpPr>
          <p:sp>
            <p:nvSpPr>
              <p:cNvPr id="962" name=""/>
              <p:cNvSpPr/>
              <p:nvPr/>
            </p:nvSpPr>
            <p:spPr>
              <a:xfrm>
                <a:off x="6681960" y="3009960"/>
                <a:ext cx="180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 txBox="1"/>
              <p:nvPr/>
            </p:nvSpPr>
            <p:spPr>
              <a:xfrm>
                <a:off x="6369120" y="2308320"/>
                <a:ext cx="141444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not in place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 txBox="1"/>
              <p:nvPr/>
            </p:nvSpPr>
            <p:spPr>
              <a:xfrm>
                <a:off x="6964200" y="2465280"/>
                <a:ext cx="103032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starting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 txBox="1"/>
              <p:nvPr/>
            </p:nvSpPr>
            <p:spPr>
              <a:xfrm>
                <a:off x="7566120" y="2387520"/>
                <a:ext cx="122400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advanced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 txBox="1"/>
              <p:nvPr/>
            </p:nvSpPr>
            <p:spPr>
              <a:xfrm>
                <a:off x="8116920" y="2451240"/>
                <a:ext cx="105552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realised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681960" y="3009960"/>
                <a:ext cx="130320" cy="128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197840" y="3009960"/>
                <a:ext cx="128520" cy="128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842240" y="3009960"/>
                <a:ext cx="128520" cy="128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356680" y="3009960"/>
                <a:ext cx="130320" cy="128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 txBox="1"/>
              <p:nvPr/>
            </p:nvSpPr>
            <p:spPr>
              <a:xfrm>
                <a:off x="6397560" y="2997360"/>
                <a:ext cx="43164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1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 txBox="1"/>
              <p:nvPr/>
            </p:nvSpPr>
            <p:spPr>
              <a:xfrm>
                <a:off x="6913440" y="2997360"/>
                <a:ext cx="43164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2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 txBox="1"/>
              <p:nvPr/>
            </p:nvSpPr>
            <p:spPr>
              <a:xfrm>
                <a:off x="7556400" y="2997360"/>
                <a:ext cx="55080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3 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 txBox="1"/>
              <p:nvPr/>
            </p:nvSpPr>
            <p:spPr>
              <a:xfrm>
                <a:off x="8074080" y="2997360"/>
                <a:ext cx="43164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Univers 45 Light"/>
                    <a:ea typeface="Univers 45 Light"/>
                  </a:rPr>
                  <a:t>4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5" name=""/>
          <p:cNvSpPr/>
          <p:nvPr/>
        </p:nvSpPr>
        <p:spPr>
          <a:xfrm>
            <a:off x="1646280" y="1432080"/>
            <a:ext cx="4385160" cy="4207320"/>
          </a:xfrm>
          <a:custGeom>
            <a:avLst/>
            <a:gdLst/>
            <a:ahLst/>
            <a:rect l="0" t="0" r="r" b="b"/>
            <a:pathLst>
              <a:path w="12181" h="11687">
                <a:moveTo>
                  <a:pt x="0" y="11687"/>
                </a:moveTo>
                <a:lnTo>
                  <a:pt x="9745" y="11687"/>
                </a:lnTo>
                <a:lnTo>
                  <a:pt x="12181" y="9350"/>
                </a:lnTo>
                <a:lnTo>
                  <a:pt x="12181" y="0"/>
                </a:lnTo>
                <a:lnTo>
                  <a:pt x="9745" y="2337"/>
                </a:lnTo>
                <a:lnTo>
                  <a:pt x="9745" y="11687"/>
                </a:lnTo>
                <a:lnTo>
                  <a:pt x="9745" y="2337"/>
                </a:lnTo>
                <a:lnTo>
                  <a:pt x="0" y="2337"/>
                </a:lnTo>
                <a:lnTo>
                  <a:pt x="2435" y="0"/>
                </a:lnTo>
                <a:lnTo>
                  <a:pt x="12181" y="0"/>
                </a:lnTo>
                <a:lnTo>
                  <a:pt x="2435" y="0"/>
                </a:lnTo>
                <a:lnTo>
                  <a:pt x="0" y="2337"/>
                </a:lnTo>
                <a:lnTo>
                  <a:pt x="0" y="11687"/>
                </a:lnTo>
                <a:close/>
              </a:path>
            </a:pathLst>
          </a:custGeom>
          <a:solidFill>
            <a:srgbClr val="d6cafe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646280" y="2093760"/>
            <a:ext cx="3341880" cy="398880"/>
          </a:xfrm>
          <a:custGeom>
            <a:avLst/>
            <a:gdLst/>
            <a:ahLst/>
            <a:rect l="0" t="0" r="r" b="b"/>
            <a:pathLst>
              <a:path w="9283" h="1108">
                <a:moveTo>
                  <a:pt x="0" y="1108"/>
                </a:moveTo>
                <a:lnTo>
                  <a:pt x="9283" y="1108"/>
                </a:lnTo>
                <a:lnTo>
                  <a:pt x="4642" y="0"/>
                </a:lnTo>
                <a:lnTo>
                  <a:pt x="0" y="1108"/>
                </a:lnTo>
                <a:close/>
              </a:path>
            </a:pathLst>
          </a:custGeom>
          <a:solidFill>
            <a:srgbClr val="d6cafe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708280" y="1028880"/>
            <a:ext cx="3341880" cy="403560"/>
          </a:xfrm>
          <a:custGeom>
            <a:avLst/>
            <a:gdLst/>
            <a:ahLst/>
            <a:rect l="0" t="0" r="r" b="b"/>
            <a:pathLst>
              <a:path w="9283" h="1121">
                <a:moveTo>
                  <a:pt x="0" y="1121"/>
                </a:moveTo>
                <a:lnTo>
                  <a:pt x="9283" y="1121"/>
                </a:lnTo>
                <a:lnTo>
                  <a:pt x="4642" y="0"/>
                </a:lnTo>
                <a:lnTo>
                  <a:pt x="0" y="1121"/>
                </a:lnTo>
                <a:close/>
              </a:path>
            </a:pathLst>
          </a:custGeom>
          <a:solidFill>
            <a:srgbClr val="d6cafe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3341520" y="1028880"/>
            <a:ext cx="1019520" cy="104112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1650960" y="4594320"/>
            <a:ext cx="1074600" cy="101916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727360" y="4594320"/>
            <a:ext cx="330192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2727360" y="1460520"/>
            <a:ext cx="0" cy="313380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6018120" y="4027320"/>
            <a:ext cx="224172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Knowledge st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mentally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phys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6054840" y="1306440"/>
            <a:ext cx="201312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Integr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databases lin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with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227160" y="5092560"/>
            <a:ext cx="13906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Ad-hoc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225360" y="2470320"/>
            <a:ext cx="141588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Structu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strate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2703600" y="4165560"/>
            <a:ext cx="12114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Ad-ho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5451480" y="3198960"/>
            <a:ext cx="46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969696"/>
                </a:solidFill>
                <a:latin typeface="Univers 45 Light"/>
                <a:ea typeface="Univers 45 Light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1676520" y="4440240"/>
            <a:ext cx="46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2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2781360" y="3243240"/>
            <a:ext cx="46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2690640" y="1438200"/>
            <a:ext cx="127008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Profess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1641600" y="4525920"/>
            <a:ext cx="0" cy="1111320"/>
          </a:xfrm>
          <a:prstGeom prst="line">
            <a:avLst/>
          </a:prstGeom>
          <a:ln w="38160">
            <a:solidFill>
              <a:srgbClr val="e62a0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641600" y="4179960"/>
            <a:ext cx="0" cy="374400"/>
          </a:xfrm>
          <a:prstGeom prst="line">
            <a:avLst/>
          </a:prstGeom>
          <a:ln w="38160">
            <a:solidFill>
              <a:srgbClr val="30c2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2724120" y="3341520"/>
            <a:ext cx="0" cy="1270080"/>
          </a:xfrm>
          <a:prstGeom prst="line">
            <a:avLst/>
          </a:prstGeom>
          <a:ln w="38160">
            <a:solidFill>
              <a:srgbClr val="e62a0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6029280" y="3357720"/>
            <a:ext cx="0" cy="1239840"/>
          </a:xfrm>
          <a:prstGeom prst="line">
            <a:avLst/>
          </a:prstGeom>
          <a:ln w="38160">
            <a:solidFill>
              <a:srgbClr val="e62a0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2724120" y="3054240"/>
            <a:ext cx="0" cy="303480"/>
          </a:xfrm>
          <a:prstGeom prst="line">
            <a:avLst/>
          </a:prstGeom>
          <a:ln w="38160">
            <a:solidFill>
              <a:srgbClr val="30c2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922560" y="2577960"/>
            <a:ext cx="114300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suppo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decisio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5364000" y="5311800"/>
            <a:ext cx="19749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Non-customis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6022800" y="3060720"/>
            <a:ext cx="0" cy="291960"/>
          </a:xfrm>
          <a:prstGeom prst="line">
            <a:avLst/>
          </a:prstGeom>
          <a:ln w="25560">
            <a:solidFill>
              <a:srgbClr val="30c2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28640" y="4591080"/>
            <a:ext cx="4401000" cy="1105200"/>
          </a:xfrm>
          <a:custGeom>
            <a:avLst/>
            <a:gdLst/>
            <a:ahLst/>
            <a:rect l="0" t="0" r="r" b="b"/>
            <a:pathLst>
              <a:path w="12225" h="3070">
                <a:moveTo>
                  <a:pt x="0" y="2937"/>
                </a:moveTo>
                <a:lnTo>
                  <a:pt x="3042" y="0"/>
                </a:lnTo>
                <a:lnTo>
                  <a:pt x="12225" y="0"/>
                </a:lnTo>
                <a:lnTo>
                  <a:pt x="9315" y="2911"/>
                </a:lnTo>
                <a:lnTo>
                  <a:pt x="26" y="2911"/>
                </a:lnTo>
                <a:lnTo>
                  <a:pt x="26" y="3070"/>
                </a:lnTo>
                <a:lnTo>
                  <a:pt x="0" y="2937"/>
                </a:lnTo>
                <a:close/>
              </a:path>
            </a:pathLst>
          </a:cu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4997520" y="4237200"/>
            <a:ext cx="46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  <a:ea typeface="Univers 45 Light"/>
              </a:rPr>
              <a:t>1,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4989600" y="4049640"/>
            <a:ext cx="0" cy="519120"/>
          </a:xfrm>
          <a:prstGeom prst="line">
            <a:avLst/>
          </a:prstGeom>
          <a:ln w="38160">
            <a:solidFill>
              <a:srgbClr val="30c2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989600" y="4568760"/>
            <a:ext cx="0" cy="108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4989600" y="4540320"/>
            <a:ext cx="0" cy="1096920"/>
          </a:xfrm>
          <a:prstGeom prst="line">
            <a:avLst/>
          </a:prstGeom>
          <a:ln w="38160">
            <a:solidFill>
              <a:srgbClr val="e62a0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914400" y="5907240"/>
            <a:ext cx="809316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A quick fix is not possible with regard to the implementation of 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Step by step, the KM performance should be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ed Feelings about KM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52600" y="1916280"/>
            <a:ext cx="3505320" cy="2428920"/>
            <a:chOff x="552600" y="1916280"/>
            <a:chExt cx="3505320" cy="2428920"/>
          </a:xfrm>
        </p:grpSpPr>
        <p:sp>
          <p:nvSpPr>
            <p:cNvPr id="1007" name=""/>
            <p:cNvSpPr/>
            <p:nvPr/>
          </p:nvSpPr>
          <p:spPr>
            <a:xfrm>
              <a:off x="552600" y="1916280"/>
              <a:ext cx="3473280" cy="242892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 txBox="1"/>
            <p:nvPr/>
          </p:nvSpPr>
          <p:spPr>
            <a:xfrm>
              <a:off x="571680" y="1986120"/>
              <a:ext cx="348624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969696"/>
                  </a:solidFill>
                  <a:latin typeface="Arial"/>
                  <a:ea typeface="Arial"/>
                </a:rPr>
                <a:t>Overall satisfying result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588960" y="2376360"/>
              <a:ext cx="3332160" cy="1687680"/>
              <a:chOff x="588960" y="2376360"/>
              <a:chExt cx="3332160" cy="1687680"/>
            </a:xfrm>
          </p:grpSpPr>
          <p:sp>
            <p:nvSpPr>
              <p:cNvPr id="1010" name=""/>
              <p:cNvSpPr/>
              <p:nvPr/>
            </p:nvSpPr>
            <p:spPr>
              <a:xfrm>
                <a:off x="1787400" y="2376360"/>
                <a:ext cx="780120" cy="1314720"/>
              </a:xfrm>
              <a:custGeom>
                <a:avLst/>
                <a:gdLst/>
                <a:ahLst/>
                <a:rect l="0" t="0" r="r" b="b"/>
                <a:pathLst>
                  <a:path w="2167" h="3652">
                    <a:moveTo>
                      <a:pt x="4" y="2170"/>
                    </a:moveTo>
                    <a:lnTo>
                      <a:pt x="1584" y="3652"/>
                    </a:lnTo>
                    <a:lnTo>
                      <a:pt x="1584" y="3652"/>
                    </a:lnTo>
                    <a:cubicBezTo>
                      <a:pt x="1697" y="3531"/>
                      <a:pt x="1795" y="3398"/>
                      <a:pt x="1877" y="3255"/>
                    </a:cubicBezTo>
                    <a:cubicBezTo>
                      <a:pt x="2067" y="2925"/>
                      <a:pt x="2167" y="2551"/>
                      <a:pt x="2167" y="2170"/>
                    </a:cubicBezTo>
                    <a:cubicBezTo>
                      <a:pt x="2167" y="1789"/>
                      <a:pt x="2067" y="1415"/>
                      <a:pt x="1877" y="1085"/>
                    </a:cubicBezTo>
                    <a:cubicBezTo>
                      <a:pt x="1687" y="755"/>
                      <a:pt x="1415" y="481"/>
                      <a:pt x="1086" y="291"/>
                    </a:cubicBezTo>
                    <a:cubicBezTo>
                      <a:pt x="757" y="100"/>
                      <a:pt x="384" y="0"/>
                      <a:pt x="5" y="0"/>
                    </a:cubicBezTo>
                    <a:cubicBezTo>
                      <a:pt x="3" y="0"/>
                      <a:pt x="2" y="0"/>
                      <a:pt x="0" y="0"/>
                    </a:cubicBezTo>
                    <a:lnTo>
                      <a:pt x="4" y="2170"/>
                    </a:lnTo>
                    <a:close/>
                  </a:path>
                </a:pathLst>
              </a:custGeom>
              <a:solidFill>
                <a:srgbClr val="30c2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87400" y="3157560"/>
                <a:ext cx="570240" cy="781560"/>
              </a:xfrm>
              <a:custGeom>
                <a:avLst/>
                <a:gdLst/>
                <a:ahLst/>
                <a:rect l="0" t="0" r="r" b="b"/>
                <a:pathLst>
                  <a:path w="1584" h="2171">
                    <a:moveTo>
                      <a:pt x="4" y="0"/>
                    </a:moveTo>
                    <a:lnTo>
                      <a:pt x="0" y="2171"/>
                    </a:lnTo>
                    <a:lnTo>
                      <a:pt x="0" y="2171"/>
                    </a:lnTo>
                    <a:cubicBezTo>
                      <a:pt x="2" y="2171"/>
                      <a:pt x="3" y="2171"/>
                      <a:pt x="5" y="2171"/>
                    </a:cubicBezTo>
                    <a:cubicBezTo>
                      <a:pt x="384" y="2171"/>
                      <a:pt x="757" y="2071"/>
                      <a:pt x="1086" y="1880"/>
                    </a:cubicBezTo>
                    <a:cubicBezTo>
                      <a:pt x="1270" y="1773"/>
                      <a:pt x="1438" y="1639"/>
                      <a:pt x="1584" y="1482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2a0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011240" y="2376360"/>
                <a:ext cx="780480" cy="1562400"/>
              </a:xfrm>
              <a:custGeom>
                <a:avLst/>
                <a:gdLst/>
                <a:ahLst/>
                <a:rect l="0" t="0" r="r" b="b"/>
                <a:pathLst>
                  <a:path w="2168" h="4340">
                    <a:moveTo>
                      <a:pt x="2168" y="2169"/>
                    </a:moveTo>
                    <a:lnTo>
                      <a:pt x="2163" y="0"/>
                    </a:lnTo>
                    <a:lnTo>
                      <a:pt x="2163" y="0"/>
                    </a:lnTo>
                    <a:cubicBezTo>
                      <a:pt x="1783" y="0"/>
                      <a:pt x="1410" y="100"/>
                      <a:pt x="1082" y="291"/>
                    </a:cubicBezTo>
                    <a:cubicBezTo>
                      <a:pt x="753" y="481"/>
                      <a:pt x="480" y="755"/>
                      <a:pt x="290" y="1085"/>
                    </a:cubicBezTo>
                    <a:cubicBezTo>
                      <a:pt x="100" y="1415"/>
                      <a:pt x="0" y="1789"/>
                      <a:pt x="0" y="2170"/>
                    </a:cubicBezTo>
                    <a:cubicBezTo>
                      <a:pt x="0" y="2551"/>
                      <a:pt x="100" y="2925"/>
                      <a:pt x="290" y="3255"/>
                    </a:cubicBezTo>
                    <a:cubicBezTo>
                      <a:pt x="480" y="3585"/>
                      <a:pt x="753" y="3859"/>
                      <a:pt x="1082" y="4049"/>
                    </a:cubicBezTo>
                    <a:cubicBezTo>
                      <a:pt x="1410" y="4240"/>
                      <a:pt x="1783" y="4340"/>
                      <a:pt x="2163" y="4340"/>
                    </a:cubicBezTo>
                    <a:lnTo>
                      <a:pt x="2168" y="2169"/>
                    </a:lnTo>
                    <a:close/>
                  </a:path>
                </a:pathLst>
              </a:custGeom>
              <a:solidFill>
                <a:srgbClr val="eeaf3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 txBox="1"/>
              <p:nvPr/>
            </p:nvSpPr>
            <p:spPr>
              <a:xfrm>
                <a:off x="2438280" y="2583000"/>
                <a:ext cx="488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7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 txBox="1"/>
              <p:nvPr/>
            </p:nvSpPr>
            <p:spPr>
              <a:xfrm>
                <a:off x="2049480" y="3816360"/>
                <a:ext cx="488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 txBox="1"/>
              <p:nvPr/>
            </p:nvSpPr>
            <p:spPr>
              <a:xfrm>
                <a:off x="588960" y="2986200"/>
                <a:ext cx="4888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spcBef>
                    <a:spcPts val="1199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 txBox="1"/>
              <p:nvPr/>
            </p:nvSpPr>
            <p:spPr>
              <a:xfrm>
                <a:off x="2868480" y="3021120"/>
                <a:ext cx="1052640" cy="74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95400" indent="-95400">
                  <a:lnSpc>
                    <a:spcPct val="85000"/>
                  </a:lnSpc>
                  <a:spcBef>
                    <a:spcPts val="1199"/>
                  </a:spcBef>
                  <a:buClr>
                    <a:srgbClr val="30c200"/>
                  </a:buClr>
                  <a:buSzPct val="45000"/>
                  <a:buFont typeface="Wingdings"/>
                  <a:buChar char=""/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5400" indent="-95400">
                  <a:lnSpc>
                    <a:spcPct val="85000"/>
                  </a:lnSpc>
                  <a:spcBef>
                    <a:spcPts val="1199"/>
                  </a:spcBef>
                  <a:buClr>
                    <a:srgbClr val="e62a05"/>
                  </a:buClr>
                  <a:buSzPct val="45000"/>
                  <a:buFont typeface="Wingdings"/>
                  <a:buChar char=""/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5400" indent="-95400">
                  <a:lnSpc>
                    <a:spcPct val="85000"/>
                  </a:lnSpc>
                  <a:spcBef>
                    <a:spcPts val="1199"/>
                  </a:spcBef>
                  <a:buClr>
                    <a:srgbClr val="eeaf36"/>
                  </a:buClr>
                  <a:buSzPct val="45000"/>
                  <a:buFont typeface="Wingdings"/>
                  <a:buChar char=""/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n’t kno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 txBox="1"/>
            <p:nvPr/>
          </p:nvSpPr>
          <p:spPr>
            <a:xfrm>
              <a:off x="825480" y="3997440"/>
              <a:ext cx="1936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(*) KM initiative in pl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4386240" y="1917720"/>
            <a:ext cx="4586400" cy="2427120"/>
            <a:chOff x="4386240" y="1917720"/>
            <a:chExt cx="4586400" cy="2427120"/>
          </a:xfrm>
        </p:grpSpPr>
        <p:sp>
          <p:nvSpPr>
            <p:cNvPr id="1019" name=""/>
            <p:cNvSpPr/>
            <p:nvPr/>
          </p:nvSpPr>
          <p:spPr>
            <a:xfrm>
              <a:off x="4386240" y="1917720"/>
              <a:ext cx="4471920" cy="242712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778360" y="2030400"/>
              <a:ext cx="2916360" cy="18111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146640" y="2075040"/>
              <a:ext cx="0" cy="1776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80320" y="2075040"/>
              <a:ext cx="0" cy="1776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513480" y="2075040"/>
              <a:ext cx="0" cy="1776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248600" y="2075040"/>
              <a:ext cx="0" cy="1776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616880" y="2075040"/>
              <a:ext cx="0" cy="1776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983360" y="2075040"/>
              <a:ext cx="0" cy="1776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 txBox="1"/>
            <p:nvPr/>
          </p:nvSpPr>
          <p:spPr>
            <a:xfrm>
              <a:off x="5719680" y="3870360"/>
              <a:ext cx="3252960" cy="17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ctr" pos="762120"/>
                  <a:tab algn="ctr" pos="1143000"/>
                  <a:tab algn="ctr" pos="1523880"/>
                  <a:tab algn="ctr" pos="1809720"/>
                  <a:tab algn="ctr" pos="2190600"/>
                  <a:tab algn="ctr" pos="2476440"/>
                </a:tabLst>
              </a:pPr>
              <a:r>
                <a:rPr b="1" lang="en-US" sz="8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0         10         20</a:t>
              </a:r>
              <a:r>
                <a:rPr b="1" lang="en-US" sz="8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	</a:t>
              </a:r>
              <a:r>
                <a:rPr b="1" lang="en-US" sz="8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         30         40         50          60        70       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778360" y="2138400"/>
              <a:ext cx="1984320" cy="1252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778360" y="2583000"/>
              <a:ext cx="2352600" cy="1285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78360" y="3025800"/>
              <a:ext cx="2205000" cy="1270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78360" y="3470400"/>
              <a:ext cx="1763640" cy="1270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 txBox="1"/>
            <p:nvPr/>
          </p:nvSpPr>
          <p:spPr>
            <a:xfrm>
              <a:off x="4429080" y="2957400"/>
              <a:ext cx="86040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Improved staf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morale/attitu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 txBox="1"/>
            <p:nvPr/>
          </p:nvSpPr>
          <p:spPr>
            <a:xfrm>
              <a:off x="4437000" y="3406680"/>
              <a:ext cx="987480" cy="37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Enhanc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communication &amp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decision mak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 txBox="1"/>
            <p:nvPr/>
          </p:nvSpPr>
          <p:spPr>
            <a:xfrm>
              <a:off x="4440240" y="2514600"/>
              <a:ext cx="105732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Increased potent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for innov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 txBox="1"/>
            <p:nvPr/>
          </p:nvSpPr>
          <p:spPr>
            <a:xfrm>
              <a:off x="4444920" y="2070000"/>
              <a:ext cx="112716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Improv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market performa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778360" y="2263680"/>
              <a:ext cx="1838160" cy="12852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778360" y="2711520"/>
              <a:ext cx="2055960" cy="12528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78360" y="3152880"/>
              <a:ext cx="954000" cy="12708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778360" y="3597120"/>
              <a:ext cx="2498760" cy="12708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505400" y="3951360"/>
              <a:ext cx="146160" cy="1270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505400" y="4141800"/>
              <a:ext cx="146160" cy="12708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 txBox="1"/>
            <p:nvPr/>
          </p:nvSpPr>
          <p:spPr>
            <a:xfrm>
              <a:off x="4687920" y="3943440"/>
              <a:ext cx="104760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Perceived benefi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 txBox="1"/>
            <p:nvPr/>
          </p:nvSpPr>
          <p:spPr>
            <a:xfrm>
              <a:off x="4687920" y="4111560"/>
              <a:ext cx="197964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969696"/>
                  </a:solidFill>
                  <a:latin typeface="Univers 45 Light"/>
                  <a:ea typeface="Univers 45 Light"/>
                </a:rPr>
                <a:t>Reason to launch initiat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337600" y="2046240"/>
              <a:ext cx="0" cy="177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"/>
          <p:cNvSpPr txBox="1"/>
          <p:nvPr/>
        </p:nvSpPr>
        <p:spPr>
          <a:xfrm>
            <a:off x="419040" y="5068800"/>
            <a:ext cx="830736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Too early or difficult for 50% to judge whether overall results are satisf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Improved communication &amp; decision making is not (yet) prov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Improved staff morale/commitment is a welcomed spin-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595520" y="1733400"/>
            <a:ext cx="6313320" cy="4000680"/>
          </a:xfrm>
          <a:prstGeom prst="rect">
            <a:avLst/>
          </a:prstGeom>
          <a:solidFill>
            <a:srgbClr val="feffab"/>
          </a:solidFill>
          <a:ln w="12600">
            <a:solidFill>
              <a:srgbClr val="6666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292400" y="4405320"/>
            <a:ext cx="6862680" cy="533520"/>
          </a:xfrm>
          <a:prstGeom prst="rect">
            <a:avLst/>
          </a:prstGeom>
          <a:solidFill>
            <a:srgbClr val="d1d1ff"/>
          </a:solidFill>
          <a:ln w="12600">
            <a:solidFill>
              <a:srgbClr val="6666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1827360" y="2176560"/>
            <a:ext cx="5951520" cy="29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0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Executive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1. 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Introduction of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2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Current status of managing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3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Towards Knowled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4.</a:t>
            </a: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 txBox="1"/>
          <p:nvPr/>
        </p:nvSpPr>
        <p:spPr>
          <a:xfrm>
            <a:off x="0" y="1857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512640" y="817560"/>
            <a:ext cx="8272440" cy="66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1760" indent="-401760">
              <a:lnSpc>
                <a:spcPct val="9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We have entered the knowledge economy in which knowledge is the basis of a competitive adva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9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Potential benefit areas are increased innovation potential, improved staff morale and better decision-making and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Knowledge management is therefore common sense, but it is not yet common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9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Most companies still have to go a long way in building a truly value-based knowledge organisation as they recognise that they insufficiently master essential knowledge-based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As long as commitment, understanding, vision, long-time focus and time to share information are lacking ... … don’t start a knowledge management initi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9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A step by step approach is needed that respects soft values and is based on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12852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cutive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36680" y="874800"/>
            <a:ext cx="827244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1760" indent="-401760">
              <a:lnSpc>
                <a:spcPct val="9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One third of the companies have a KM initiative in place; another third is preparing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9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For some companies the preparation takes more than 2 years; this suggests that they may be unsure of how best to get started; moreover, they also may lose critical commi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9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Most companies implement an initiative at company level (63%); Added value of an initiative at departemental level is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9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Initiatives are often headed by more than one person; R&amp;D is often one of the initi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9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Approach of most initiatives is fragmented and in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Initiatives lack vision (4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There is insufficient understanding of info needs, flows and owners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Stimulating incentive schemes are often not in place (5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There is no link between the workflow and databases (69%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20484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cutive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8520" y="817560"/>
            <a:ext cx="8612280" cy="70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1760" indent="-401760">
              <a:lnSpc>
                <a:spcPct val="8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Lack of commitment, understanding of knowlegde management and vision, too much emphasis on short-term results and time shortage are regarded as key bottlenecks for a successful implementation of knowledge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Many have already the technology infrastructure to support knowledge management in place (IT role is usually overestim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Shortage of time is considered a greater drawback than the cultural issues popularly accepted to be b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Knowledge management is not a quick fix. Most companies are still in the early stages of implement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As a result, it is too early to judge whether knowledge management does deliver expected benefits (50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Better decision-making and communication are the key drivers to start an initiative; other motives touch upon innovation potential and market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347760">
              <a:lnSpc>
                <a:spcPct val="85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ZapfDingbats BT"/>
              <a:buChar char="u"/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Most companies identify already an increased potential for innovation and an improved staff mora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52280" y="52848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95520" y="1886040"/>
            <a:ext cx="6313320" cy="3886200"/>
          </a:xfrm>
          <a:prstGeom prst="rect">
            <a:avLst/>
          </a:prstGeom>
          <a:solidFill>
            <a:srgbClr val="feffab"/>
          </a:solidFill>
          <a:ln w="12600">
            <a:solidFill>
              <a:srgbClr val="6666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2400" y="2843280"/>
            <a:ext cx="6862680" cy="533520"/>
          </a:xfrm>
          <a:prstGeom prst="rect">
            <a:avLst/>
          </a:prstGeom>
          <a:solidFill>
            <a:srgbClr val="d1d1ff"/>
          </a:solidFill>
          <a:ln w="12600">
            <a:solidFill>
              <a:srgbClr val="6666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27360" y="2328840"/>
            <a:ext cx="5951520" cy="328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0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Executive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1. </a:t>
            </a: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Introduction of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2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Current status of managing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3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Towards Knowled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4.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Univers 45 Light"/>
                <a:ea typeface="Univers 45 Light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7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2430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rvey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840" y="887400"/>
            <a:ext cx="8515440" cy="5361120"/>
          </a:xfrm>
          <a:prstGeom prst="rect">
            <a:avLst/>
          </a:prstGeom>
          <a:gradFill rotWithShape="0">
            <a:gsLst>
              <a:gs pos="0">
                <a:srgbClr val="552de3"/>
              </a:gs>
              <a:gs pos="100000">
                <a:srgbClr val="0000f8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12840" y="1050840"/>
            <a:ext cx="8591400" cy="60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95560" indent="-2095560">
              <a:lnSpc>
                <a:spcPct val="9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Objective</a:t>
            </a:r>
            <a:r>
              <a:rPr b="1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Establish the extent to which companies regard 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knowledge  management as important and 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pursue initiatives to implement and master it.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95560" indent="-2095560">
              <a:lnSpc>
                <a:spcPct val="9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560" indent="-2095560">
              <a:lnSpc>
                <a:spcPct val="9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Target</a:t>
            </a:r>
            <a:r>
              <a:rPr b="0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group</a:t>
            </a: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Mid- to large-size companies from a variety of 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industries. The research was conducted among chief executives, business unit managers, product managers, marketing managers and R&amp;D manag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95560" indent="-2095560">
              <a:lnSpc>
                <a:spcPct val="9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560" indent="-2095560">
              <a:lnSpc>
                <a:spcPct val="9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Questionaire</a:t>
            </a:r>
            <a:r>
              <a:rPr b="0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Data from 25 companies was proc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95560" indent="-2095560">
              <a:lnSpc>
                <a:spcPct val="9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560" indent="-2095560">
              <a:lnSpc>
                <a:spcPct val="9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Definitions</a:t>
            </a:r>
            <a:r>
              <a:rPr b="1" lang="en-US" sz="2400" spc="-1" strike="noStrike">
                <a:solidFill>
                  <a:srgbClr val="fafd00"/>
                </a:solidFill>
                <a:latin typeface="Univers 45 Light"/>
                <a:ea typeface="Univers 45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Knowledge means the knowledge in the business about customers, products, processes, competitors and so 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Univers 45 Light"/>
                <a:ea typeface="Univers 45 Light"/>
              </a:rPr>
              <a:t>… Knowledge management is the discipline of capturing knowledge-based competencies, storing and disseminating them for the benefit of the organis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ents’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06640" y="1312920"/>
            <a:ext cx="6989760" cy="4118040"/>
          </a:xfrm>
          <a:prstGeom prst="rect">
            <a:avLst/>
          </a:prstGeom>
          <a:solidFill>
            <a:srgbClr val="feffa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44760" y="1546200"/>
            <a:ext cx="425124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ze responding organis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3320" y="1935000"/>
            <a:ext cx="3299400" cy="3315240"/>
            <a:chOff x="1903320" y="1935000"/>
            <a:chExt cx="3299400" cy="3315240"/>
          </a:xfrm>
        </p:grpSpPr>
        <p:grpSp>
          <p:nvGrpSpPr>
            <p:cNvPr id="89" name=""/>
            <p:cNvGrpSpPr/>
            <p:nvPr/>
          </p:nvGrpSpPr>
          <p:grpSpPr>
            <a:xfrm>
              <a:off x="1903320" y="1935000"/>
              <a:ext cx="3299400" cy="3315240"/>
              <a:chOff x="1903320" y="1935000"/>
              <a:chExt cx="3299400" cy="3315240"/>
            </a:xfrm>
          </p:grpSpPr>
          <p:sp>
            <p:nvSpPr>
              <p:cNvPr id="90" name=""/>
              <p:cNvSpPr/>
              <p:nvPr/>
            </p:nvSpPr>
            <p:spPr>
              <a:xfrm>
                <a:off x="3538440" y="1935000"/>
                <a:ext cx="1656720" cy="1657800"/>
              </a:xfrm>
              <a:custGeom>
                <a:avLst/>
                <a:gdLst/>
                <a:ahLst/>
                <a:rect l="0" t="0" r="r" b="b"/>
                <a:pathLst>
                  <a:path w="4602" h="4605">
                    <a:moveTo>
                      <a:pt x="39" y="4605"/>
                    </a:moveTo>
                    <a:lnTo>
                      <a:pt x="4602" y="4219"/>
                    </a:lnTo>
                    <a:lnTo>
                      <a:pt x="4602" y="4219"/>
                    </a:lnTo>
                    <a:cubicBezTo>
                      <a:pt x="4546" y="3544"/>
                      <a:pt x="4342" y="2889"/>
                      <a:pt x="4005" y="2302"/>
                    </a:cubicBezTo>
                    <a:cubicBezTo>
                      <a:pt x="3603" y="1602"/>
                      <a:pt x="3025" y="1021"/>
                      <a:pt x="2329" y="617"/>
                    </a:cubicBezTo>
                    <a:cubicBezTo>
                      <a:pt x="1633" y="213"/>
                      <a:pt x="844" y="0"/>
                      <a:pt x="40" y="0"/>
                    </a:cubicBezTo>
                    <a:cubicBezTo>
                      <a:pt x="27" y="0"/>
                      <a:pt x="13" y="0"/>
                      <a:pt x="0" y="0"/>
                    </a:cubicBezTo>
                    <a:lnTo>
                      <a:pt x="39" y="4605"/>
                    </a:lnTo>
                    <a:close/>
                  </a:path>
                </a:pathLst>
              </a:custGeom>
              <a:solidFill>
                <a:srgbClr val="552de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53560" y="3450240"/>
                <a:ext cx="1649160" cy="1679760"/>
              </a:xfrm>
              <a:custGeom>
                <a:avLst/>
                <a:gdLst/>
                <a:ahLst/>
                <a:rect l="0" t="0" r="r" b="b"/>
                <a:pathLst>
                  <a:path w="4581" h="4666">
                    <a:moveTo>
                      <a:pt x="0" y="385"/>
                    </a:moveTo>
                    <a:lnTo>
                      <a:pt x="1679" y="4666"/>
                    </a:lnTo>
                    <a:lnTo>
                      <a:pt x="1679" y="4666"/>
                    </a:lnTo>
                    <a:cubicBezTo>
                      <a:pt x="1890" y="4583"/>
                      <a:pt x="2094" y="4484"/>
                      <a:pt x="2291" y="4370"/>
                    </a:cubicBezTo>
                    <a:cubicBezTo>
                      <a:pt x="2987" y="3966"/>
                      <a:pt x="3565" y="3385"/>
                      <a:pt x="3967" y="2686"/>
                    </a:cubicBezTo>
                    <a:cubicBezTo>
                      <a:pt x="4369" y="1987"/>
                      <a:pt x="4581" y="1193"/>
                      <a:pt x="4581" y="386"/>
                    </a:cubicBezTo>
                    <a:cubicBezTo>
                      <a:pt x="4581" y="257"/>
                      <a:pt x="4576" y="128"/>
                      <a:pt x="4565" y="0"/>
                    </a:cubicBez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9900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921400" y="3592440"/>
                <a:ext cx="1233720" cy="1657800"/>
              </a:xfrm>
              <a:custGeom>
                <a:avLst/>
                <a:gdLst/>
                <a:ahLst/>
                <a:rect l="0" t="0" r="r" b="b"/>
                <a:pathLst>
                  <a:path w="3427" h="4605">
                    <a:moveTo>
                      <a:pt x="1750" y="0"/>
                    </a:moveTo>
                    <a:lnTo>
                      <a:pt x="0" y="4255"/>
                    </a:lnTo>
                    <a:lnTo>
                      <a:pt x="0" y="4255"/>
                    </a:lnTo>
                    <a:cubicBezTo>
                      <a:pt x="555" y="4486"/>
                      <a:pt x="1150" y="4605"/>
                      <a:pt x="1750" y="4605"/>
                    </a:cubicBezTo>
                    <a:cubicBezTo>
                      <a:pt x="2324" y="4605"/>
                      <a:pt x="2893" y="4497"/>
                      <a:pt x="3427" y="4285"/>
                    </a:cubicBezTo>
                    <a:lnTo>
                      <a:pt x="1750" y="0"/>
                    </a:lnTo>
                    <a:close/>
                  </a:path>
                </a:pathLst>
              </a:custGeom>
              <a:solidFill>
                <a:srgbClr val="eeaf3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03320" y="2705040"/>
                <a:ext cx="1648440" cy="2417400"/>
              </a:xfrm>
              <a:custGeom>
                <a:avLst/>
                <a:gdLst/>
                <a:ahLst/>
                <a:rect l="0" t="0" r="r" b="b"/>
                <a:pathLst>
                  <a:path w="4579" h="6715">
                    <a:moveTo>
                      <a:pt x="4579" y="2460"/>
                    </a:moveTo>
                    <a:lnTo>
                      <a:pt x="709" y="0"/>
                    </a:lnTo>
                    <a:lnTo>
                      <a:pt x="709" y="0"/>
                    </a:lnTo>
                    <a:cubicBezTo>
                      <a:pt x="676" y="53"/>
                      <a:pt x="644" y="106"/>
                      <a:pt x="613" y="160"/>
                    </a:cubicBezTo>
                    <a:cubicBezTo>
                      <a:pt x="211" y="859"/>
                      <a:pt x="0" y="1653"/>
                      <a:pt x="0" y="2461"/>
                    </a:cubicBezTo>
                    <a:cubicBezTo>
                      <a:pt x="0" y="3270"/>
                      <a:pt x="211" y="4063"/>
                      <a:pt x="613" y="4763"/>
                    </a:cubicBezTo>
                    <a:cubicBezTo>
                      <a:pt x="1015" y="5463"/>
                      <a:pt x="1593" y="6044"/>
                      <a:pt x="2289" y="6448"/>
                    </a:cubicBezTo>
                    <a:cubicBezTo>
                      <a:pt x="2462" y="6549"/>
                      <a:pt x="2642" y="6638"/>
                      <a:pt x="2827" y="6715"/>
                    </a:cubicBezTo>
                    <a:lnTo>
                      <a:pt x="4579" y="2460"/>
                    </a:lnTo>
                    <a:close/>
                  </a:path>
                </a:pathLst>
              </a:custGeom>
              <a:solidFill>
                <a:srgbClr val="66cd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160000" y="1935360"/>
                <a:ext cx="1392840" cy="1657440"/>
              </a:xfrm>
              <a:custGeom>
                <a:avLst/>
                <a:gdLst/>
                <a:ahLst/>
                <a:rect l="0" t="0" r="r" b="b"/>
                <a:pathLst>
                  <a:path w="3869" h="4604">
                    <a:moveTo>
                      <a:pt x="3869" y="4604"/>
                    </a:moveTo>
                    <a:lnTo>
                      <a:pt x="3829" y="0"/>
                    </a:lnTo>
                    <a:lnTo>
                      <a:pt x="3829" y="0"/>
                    </a:lnTo>
                    <a:cubicBezTo>
                      <a:pt x="3039" y="7"/>
                      <a:pt x="2264" y="219"/>
                      <a:pt x="1580" y="617"/>
                    </a:cubicBezTo>
                    <a:cubicBezTo>
                      <a:pt x="938" y="989"/>
                      <a:pt x="396" y="1513"/>
                      <a:pt x="0" y="2142"/>
                    </a:cubicBezTo>
                    <a:lnTo>
                      <a:pt x="3869" y="4604"/>
                    </a:lnTo>
                    <a:close/>
                  </a:path>
                </a:pathLst>
              </a:custGeom>
              <a:solidFill>
                <a:srgbClr val="3300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3894120" y="2679840"/>
              <a:ext cx="895320" cy="4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4046400" y="3933720"/>
              <a:ext cx="895320" cy="4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3065400" y="4564080"/>
              <a:ext cx="895320" cy="4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2244600" y="3700440"/>
              <a:ext cx="895320" cy="4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2641680" y="2489040"/>
              <a:ext cx="895320" cy="4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5767560" y="2787480"/>
            <a:ext cx="20718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2f2fff"/>
              </a:buClr>
              <a:buSzPct val="120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-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990066"/>
              </a:buClr>
              <a:buSzPct val="120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1-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eeaf36"/>
              </a:buClr>
              <a:buSzPct val="120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001-2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66cdcd"/>
              </a:buClr>
              <a:buSzPct val="120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.001-1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buClr>
                <a:srgbClr val="330099"/>
              </a:buClr>
              <a:buSzPct val="120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1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06640" y="1025640"/>
            <a:ext cx="6926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6200" y="5564160"/>
            <a:ext cx="8732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Average size respondents +/- 35.000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Representive sample of 25 mid- to large- size compa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ents’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730520" y="1312920"/>
            <a:ext cx="5678640" cy="1962000"/>
            <a:chOff x="1730520" y="1312920"/>
            <a:chExt cx="5678640" cy="1962000"/>
          </a:xfrm>
        </p:grpSpPr>
        <p:sp>
          <p:nvSpPr>
            <p:cNvPr id="105" name=""/>
            <p:cNvSpPr/>
            <p:nvPr/>
          </p:nvSpPr>
          <p:spPr>
            <a:xfrm>
              <a:off x="1730520" y="1312920"/>
              <a:ext cx="5678640" cy="196200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35400" y="1928880"/>
              <a:ext cx="3721320" cy="881280"/>
            </a:xfrm>
            <a:custGeom>
              <a:avLst/>
              <a:gdLst/>
              <a:ahLst/>
              <a:rect l="0" t="0" r="r" b="b"/>
              <a:pathLst>
                <a:path w="10337" h="2448">
                  <a:moveTo>
                    <a:pt x="0" y="0"/>
                  </a:moveTo>
                  <a:lnTo>
                    <a:pt x="10337" y="0"/>
                  </a:lnTo>
                  <a:lnTo>
                    <a:pt x="10337" y="2448"/>
                  </a:lnTo>
                  <a:lnTo>
                    <a:pt x="0" y="24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35400" y="1928880"/>
              <a:ext cx="3721320" cy="881280"/>
            </a:xfrm>
            <a:custGeom>
              <a:avLst/>
              <a:gdLst/>
              <a:ahLst/>
              <a:rect l="0" t="0" r="r" b="b"/>
              <a:pathLst>
                <a:path fill="none" w="10337" h="2448">
                  <a:moveTo>
                    <a:pt x="0" y="0"/>
                  </a:moveTo>
                  <a:lnTo>
                    <a:pt x="10337" y="0"/>
                  </a:lnTo>
                  <a:lnTo>
                    <a:pt x="10337" y="2448"/>
                  </a:lnTo>
                  <a:lnTo>
                    <a:pt x="0" y="244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35400" y="2505240"/>
              <a:ext cx="595800" cy="168480"/>
            </a:xfrm>
            <a:custGeom>
              <a:avLst/>
              <a:gdLst/>
              <a:ahLst/>
              <a:rect l="0" t="0" r="r" b="b"/>
              <a:pathLst>
                <a:path w="1655" h="468">
                  <a:moveTo>
                    <a:pt x="0" y="0"/>
                  </a:moveTo>
                  <a:lnTo>
                    <a:pt x="1655" y="0"/>
                  </a:lnTo>
                  <a:lnTo>
                    <a:pt x="1655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35400" y="2063880"/>
              <a:ext cx="3126240" cy="170280"/>
            </a:xfrm>
            <a:custGeom>
              <a:avLst/>
              <a:gdLst/>
              <a:ahLst/>
              <a:rect l="0" t="0" r="r" b="b"/>
              <a:pathLst>
                <a:path w="8684" h="473">
                  <a:moveTo>
                    <a:pt x="0" y="0"/>
                  </a:moveTo>
                  <a:lnTo>
                    <a:pt x="8684" y="0"/>
                  </a:lnTo>
                  <a:lnTo>
                    <a:pt x="8684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35400" y="2809800"/>
              <a:ext cx="3720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33540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08312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83084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56092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30864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05636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35400" y="1928880"/>
              <a:ext cx="0" cy="880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84640" y="280980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84640" y="23684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84640" y="19288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049640" y="1463760"/>
              <a:ext cx="1136520" cy="32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3192480" y="2903400"/>
              <a:ext cx="2905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3889440" y="2903400"/>
              <a:ext cx="3952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637160" y="2903400"/>
              <a:ext cx="3952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5367240" y="2903400"/>
              <a:ext cx="3952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6114960" y="2903400"/>
              <a:ext cx="3952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6810480" y="2903400"/>
              <a:ext cx="5014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2087640" y="2411280"/>
              <a:ext cx="125424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 loc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1935000" y="1836720"/>
              <a:ext cx="141300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than o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2206800" y="2090880"/>
              <a:ext cx="8413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741320" y="3444840"/>
            <a:ext cx="5657760" cy="1909800"/>
            <a:chOff x="1741320" y="3444840"/>
            <a:chExt cx="5657760" cy="1909800"/>
          </a:xfrm>
        </p:grpSpPr>
        <p:sp>
          <p:nvSpPr>
            <p:cNvPr id="132" name=""/>
            <p:cNvSpPr/>
            <p:nvPr/>
          </p:nvSpPr>
          <p:spPr>
            <a:xfrm>
              <a:off x="1741320" y="3444840"/>
              <a:ext cx="5657760" cy="190980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35120" y="4033800"/>
              <a:ext cx="4518360" cy="771840"/>
            </a:xfrm>
            <a:custGeom>
              <a:avLst/>
              <a:gdLst/>
              <a:ahLst/>
              <a:rect l="0" t="0" r="r" b="b"/>
              <a:pathLst>
                <a:path w="12551" h="2144">
                  <a:moveTo>
                    <a:pt x="0" y="0"/>
                  </a:moveTo>
                  <a:lnTo>
                    <a:pt x="12551" y="0"/>
                  </a:lnTo>
                  <a:lnTo>
                    <a:pt x="12551" y="2144"/>
                  </a:lnTo>
                  <a:lnTo>
                    <a:pt x="0" y="2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35120" y="4033800"/>
              <a:ext cx="4518360" cy="771840"/>
            </a:xfrm>
            <a:custGeom>
              <a:avLst/>
              <a:gdLst/>
              <a:ahLst/>
              <a:rect l="0" t="0" r="r" b="b"/>
              <a:pathLst>
                <a:path fill="none" w="12551" h="2144">
                  <a:moveTo>
                    <a:pt x="0" y="0"/>
                  </a:moveTo>
                  <a:lnTo>
                    <a:pt x="12551" y="0"/>
                  </a:lnTo>
                  <a:lnTo>
                    <a:pt x="12551" y="2144"/>
                  </a:lnTo>
                  <a:lnTo>
                    <a:pt x="0" y="214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35120" y="4537080"/>
              <a:ext cx="1810080" cy="151200"/>
            </a:xfrm>
            <a:custGeom>
              <a:avLst/>
              <a:gdLst/>
              <a:ahLst/>
              <a:rect l="0" t="0" r="r" b="b"/>
              <a:pathLst>
                <a:path w="5028" h="420">
                  <a:moveTo>
                    <a:pt x="0" y="0"/>
                  </a:moveTo>
                  <a:lnTo>
                    <a:pt x="5028" y="0"/>
                  </a:lnTo>
                  <a:lnTo>
                    <a:pt x="502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35120" y="4151160"/>
              <a:ext cx="3840480" cy="151200"/>
            </a:xfrm>
            <a:custGeom>
              <a:avLst/>
              <a:gdLst/>
              <a:ahLst/>
              <a:rect l="0" t="0" r="r" b="b"/>
              <a:pathLst>
                <a:path w="10668" h="420">
                  <a:moveTo>
                    <a:pt x="0" y="0"/>
                  </a:moveTo>
                  <a:lnTo>
                    <a:pt x="10668" y="0"/>
                  </a:lnTo>
                  <a:lnTo>
                    <a:pt x="1066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35120" y="4805280"/>
              <a:ext cx="4518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53512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66876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80204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91984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05312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35120" y="4033800"/>
              <a:ext cx="0" cy="771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84360" y="4805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84360" y="44197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3380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3398760" y="3568680"/>
              <a:ext cx="2419200" cy="32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 subsidia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367000" y="4870440"/>
              <a:ext cx="2905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3449520" y="4870440"/>
              <a:ext cx="3952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4583160" y="4870440"/>
              <a:ext cx="3952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5700600" y="4870440"/>
              <a:ext cx="3952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6834240" y="4870440"/>
              <a:ext cx="3952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062080" y="4400640"/>
              <a:ext cx="42696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943280" y="4014720"/>
              <a:ext cx="51264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 txBox="1"/>
          <p:nvPr/>
        </p:nvSpPr>
        <p:spPr>
          <a:xfrm>
            <a:off x="646200" y="5564160"/>
            <a:ext cx="854064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85000"/>
              </a:lnSpc>
              <a:buClr>
                <a:srgbClr val="e62a05"/>
              </a:buClr>
              <a:buSzPct val="12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Univers 45 Light"/>
                <a:ea typeface="Univers 45 Light"/>
              </a:rPr>
              <a:t>Most companies have numerous locations in more than one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ne Tissen</dc:creator>
  <dc:description>Prepared by:Presentations PlusJ. van Tilburg-RosePlataanhout 642719 KK  Zoetermeer</dc:description>
  <dc:language>en-US</dc:language>
  <cp:lastModifiedBy>Rene Tissen</cp:lastModifiedBy>
  <cp:revision>0</cp:revision>
  <dc:subject/>
  <dc:title>OK* Management</dc:title>
</cp:coreProperties>
</file>